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38C57-7FF9-45E5-8E89-C44CECB66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4000" y="244836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7D242-899D-4C8C-8211-823DB8BB4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348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FD23C-4AB2-437B-85DB-3988ADCC0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2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64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40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2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64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22A83-F35F-4B16-A856-CB532ADEC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4000" y="1160280"/>
            <a:ext cx="856620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856620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12560" y="158760"/>
            <a:ext cx="856764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4000" y="1160280"/>
            <a:ext cx="856620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82172-9861-4C9F-BC58-91E94AE7F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0348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4000" y="244836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0348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2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64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40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2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64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856620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7EAC3-E8C6-4375-8A7F-DBCDDD0E1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B1E98-BAE5-436B-BC0B-F9BEF7D36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A09A0-FA38-4832-86F6-9D5036977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158760"/>
            <a:ext cx="856764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CEB30-53F8-49C3-9131-1C26530539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A3C7-170B-4E31-AD2B-5D49B9CD9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348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306FC-032A-4311-80BF-B03775706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375C2-EBC8-4A2F-8F6A-E8D804A1B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07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-833" t="-1153" r="-833" b="-1729"/>
          <a:stretch/>
        </p:blipFill>
        <p:spPr>
          <a:xfrm>
            <a:off x="7834320" y="6311880"/>
            <a:ext cx="1035000" cy="30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4000" y="1160280"/>
            <a:ext cx="856620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0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001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00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001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143240" y="6510240"/>
            <a:ext cx="29577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3a0e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543480" y="6511320"/>
            <a:ext cx="7905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3a0e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553F-5B3E-4218-AB62-59EC85753280}" type="slidenum">
              <a:rPr b="0" lang="de-DE" sz="1000" spc="-1" strike="noStrike">
                <a:solidFill>
                  <a:srgbClr val="3a0e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63080" cy="6854760"/>
            <a:chOff x="0" y="0"/>
            <a:chExt cx="9163080" cy="68547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6308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-833" t="-1153" r="-833" b="-1729"/>
            <a:stretch/>
          </p:blipFill>
          <p:spPr>
            <a:xfrm>
              <a:off x="7834320" y="6311880"/>
              <a:ext cx="1035000" cy="30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80880" y="6422400"/>
            <a:ext cx="29577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001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00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001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2920" y="2708280"/>
            <a:ext cx="831816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M-Alpha Documentation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Jer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12920" y="3715920"/>
            <a:ext cx="8318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Kheng-Wah Ko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January 200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560" y="18900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Arial"/>
              </a:rPr>
              <a:t>Business Case – Analysis and required Actions</a:t>
            </a:r>
            <a:br>
              <a:rPr sz="2400"/>
            </a:br>
            <a:r>
              <a:rPr b="1" lang="en-GB" sz="1800" spc="-1" strike="noStrike">
                <a:solidFill>
                  <a:srgbClr val="3a0e66"/>
                </a:solidFill>
                <a:latin typeface="Arial"/>
              </a:rPr>
              <a:t>The Jerry is show a overall positive financial situation</a:t>
            </a:r>
            <a:endParaRPr b="1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292720" y="1128600"/>
            <a:ext cx="3664080" cy="644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alysis /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92720" y="1873080"/>
            <a:ext cx="3651120" cy="4219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arget G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ulfill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ulfillm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velopment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ith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3,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s very g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M Index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m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 months (85 k volum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reak Even I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EBIT =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m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M always higher HK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reak Even II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acc. EBIT = max.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heck Pricing risk due to planned push-back V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291280" y="6140520"/>
            <a:ext cx="3646440" cy="234720"/>
          </a:xfrm>
          <a:prstGeom prst="rect">
            <a:avLst/>
          </a:prstGeom>
          <a:noFill/>
          <a:ln w="9360">
            <a:solidFill>
              <a:srgbClr val="b09f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402520" y="6151680"/>
            <a:ext cx="204480" cy="204480"/>
            <a:chOff x="5402520" y="6151680"/>
            <a:chExt cx="204480" cy="204480"/>
          </a:xfrm>
        </p:grpSpPr>
        <p:sp>
          <p:nvSpPr>
            <p:cNvPr id="405" name=""/>
            <p:cNvSpPr/>
            <p:nvPr/>
          </p:nvSpPr>
          <p:spPr>
            <a:xfrm flipV="1" rot="19605000">
              <a:off x="5430600" y="6179760"/>
              <a:ext cx="147600" cy="147600"/>
            </a:xfrm>
            <a:prstGeom prst="ellipse">
              <a:avLst/>
            </a:prstGeom>
            <a:solidFill>
              <a:srgbClr val="b09fc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466600" y="6229080"/>
              <a:ext cx="7596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6548400" y="6168240"/>
            <a:ext cx="191520" cy="191520"/>
            <a:chOff x="6548400" y="6168240"/>
            <a:chExt cx="191520" cy="191520"/>
          </a:xfrm>
        </p:grpSpPr>
        <p:sp>
          <p:nvSpPr>
            <p:cNvPr id="408" name=""/>
            <p:cNvSpPr/>
            <p:nvPr/>
          </p:nvSpPr>
          <p:spPr>
            <a:xfrm flipV="1" rot="2677800">
              <a:off x="6576480" y="6195960"/>
              <a:ext cx="135000" cy="136080"/>
            </a:xfrm>
            <a:prstGeom prst="ellipse">
              <a:avLst/>
            </a:prstGeom>
            <a:solidFill>
              <a:srgbClr val="b09fc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14640" y="6234480"/>
              <a:ext cx="594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5470560" y="6184800"/>
            <a:ext cx="1108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85760" indent="-18576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ve Tr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26520" y="6184800"/>
            <a:ext cx="1158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85760" indent="-18576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gative Tr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07880" y="1120680"/>
            <a:ext cx="4778640" cy="2592360"/>
          </a:xfrm>
          <a:prstGeom prst="rect">
            <a:avLst/>
          </a:prstGeom>
          <a:noFill/>
          <a:ln w="9360">
            <a:solidFill>
              <a:srgbClr val="b09f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7880" y="3789360"/>
            <a:ext cx="4778640" cy="2592360"/>
          </a:xfrm>
          <a:prstGeom prst="rect">
            <a:avLst/>
          </a:prstGeom>
          <a:noFill/>
          <a:ln w="9360">
            <a:solidFill>
              <a:srgbClr val="b09f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761160" y="2203920"/>
            <a:ext cx="240120" cy="225720"/>
            <a:chOff x="6761160" y="2203920"/>
            <a:chExt cx="240120" cy="225720"/>
          </a:xfrm>
        </p:grpSpPr>
        <p:sp>
          <p:nvSpPr>
            <p:cNvPr id="415" name=""/>
            <p:cNvSpPr/>
            <p:nvPr/>
          </p:nvSpPr>
          <p:spPr>
            <a:xfrm flipV="1" rot="279600">
              <a:off x="6769080" y="2212200"/>
              <a:ext cx="223920" cy="20808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12280" y="2311200"/>
              <a:ext cx="13752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8480" bIns="-78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01480" y="1141560"/>
            <a:ext cx="46468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6761160" y="2780280"/>
            <a:ext cx="240120" cy="225720"/>
            <a:chOff x="6761160" y="2780280"/>
            <a:chExt cx="240120" cy="225720"/>
          </a:xfrm>
        </p:grpSpPr>
        <p:sp>
          <p:nvSpPr>
            <p:cNvPr id="419" name=""/>
            <p:cNvSpPr/>
            <p:nvPr/>
          </p:nvSpPr>
          <p:spPr>
            <a:xfrm flipV="1" rot="279600">
              <a:off x="6769080" y="2788560"/>
              <a:ext cx="223920" cy="20808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12280" y="2887560"/>
              <a:ext cx="13752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8480" bIns="-78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759720" y="3405600"/>
            <a:ext cx="239760" cy="225720"/>
            <a:chOff x="6759720" y="3405600"/>
            <a:chExt cx="239760" cy="225720"/>
          </a:xfrm>
        </p:grpSpPr>
        <p:sp>
          <p:nvSpPr>
            <p:cNvPr id="422" name=""/>
            <p:cNvSpPr/>
            <p:nvPr/>
          </p:nvSpPr>
          <p:spPr>
            <a:xfrm flipV="1" rot="279600">
              <a:off x="6767640" y="3413520"/>
              <a:ext cx="223560" cy="20808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10480" y="3512880"/>
              <a:ext cx="13716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8480" bIns="-78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759720" y="3969720"/>
            <a:ext cx="239760" cy="225360"/>
            <a:chOff x="6759720" y="3969720"/>
            <a:chExt cx="239760" cy="225360"/>
          </a:xfrm>
        </p:grpSpPr>
        <p:sp>
          <p:nvSpPr>
            <p:cNvPr id="425" name=""/>
            <p:cNvSpPr/>
            <p:nvPr/>
          </p:nvSpPr>
          <p:spPr>
            <a:xfrm flipV="1" rot="279600">
              <a:off x="6767640" y="3978000"/>
              <a:ext cx="223560" cy="20772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57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10480" y="4076280"/>
              <a:ext cx="13716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8480" bIns="-78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187280" y="3213000"/>
            <a:ext cx="5977080" cy="146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was calculated based on Egoldradio BOM. Decision made this week to switch to SGL. New SGL BOM still pe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179280" y="1155600"/>
          <a:ext cx="8856720" cy="5139000"/>
        </p:xfrm>
        <a:graphic>
          <a:graphicData uri="http://schemas.openxmlformats.org/drawingml/2006/table">
            <a:tbl>
              <a:tblPr/>
              <a:tblGrid>
                <a:gridCol w="4105440"/>
                <a:gridCol w="1008000"/>
                <a:gridCol w="3743280"/>
              </a:tblGrid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liver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9fc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9fc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9fc2"/>
                    </a:solidFill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Specification (Steckbrie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ositio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tform Defin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e: SGoldl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DM/In-house spl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o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tack-up (input for desig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 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D Feasibility che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 in progress. Schedule is highly challengin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olumes, Price li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ice and Volume forecast available from Vodafone Account Tea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nly rough estimate based on Amber/Goldfinch delt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 c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nding new SGL B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 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SCM production capacity ind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ing Rea and PD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, full team not yet in-pla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Status of deliverabl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41292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Window of Opportunity – 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M-Beta Milestone Approval</a:t>
            </a:r>
            <a:r>
              <a:rPr b="1" lang="en-GB" sz="1800" spc="-1" strike="noStrike">
                <a:solidFill>
                  <a:srgbClr val="3a0e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9280" y="3789360"/>
            <a:ext cx="8856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, the Portfolio Definition Team recommend to take the following deci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342600" y="5456160"/>
            <a:ext cx="496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82160" y="5492880"/>
            <a:ext cx="395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19680" y="5452920"/>
            <a:ext cx="152712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1800"/>
            </a:b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odifi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98080" y="5454720"/>
            <a:ext cx="1972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ecision tak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89440" y="5491080"/>
            <a:ext cx="30456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marL="185760" indent="-1857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064120" y="5483160"/>
            <a:ext cx="30492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72280" y="5491080"/>
            <a:ext cx="30492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228680" y="4424400"/>
            <a:ext cx="67899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rove Milestone M-Alp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1800" spc="-1" strike="noStrike">
                <a:solidFill>
                  <a:srgbClr val="9e1d3e"/>
                </a:solidFill>
                <a:latin typeface="Arial"/>
              </a:rPr>
              <a:t>Jer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.e., </a:t>
            </a:r>
            <a:r>
              <a:rPr b="0" lang="de-DE" sz="1800" spc="-1" strike="noStrike">
                <a:solidFill>
                  <a:srgbClr val="3a0e66"/>
                </a:solidFill>
                <a:latin typeface="Arial"/>
                <a:ea typeface="宋体"/>
              </a:rPr>
              <a:t>start</a:t>
            </a:r>
            <a:r>
              <a:rPr b="0" lang="de-DE" sz="1800" spc="-1" strike="noStrike">
                <a:solidFill>
                  <a:srgbClr val="3a0e66"/>
                </a:solidFill>
                <a:latin typeface="Arial"/>
              </a:rPr>
              <a:t> with </a:t>
            </a:r>
            <a:r>
              <a:rPr b="0" lang="de-DE" sz="1800" spc="-1" strike="noStrike">
                <a:solidFill>
                  <a:srgbClr val="3a0e66"/>
                </a:solidFill>
                <a:latin typeface="Arial"/>
                <a:ea typeface="宋体"/>
              </a:rPr>
              <a:t>M0 product defini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79280" y="4307040"/>
            <a:ext cx="8785440" cy="17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rId1" action="ppaction://hlinksldjump"/>
          </p:cNvPr>
          <p:cNvSpPr/>
          <p:nvPr/>
        </p:nvSpPr>
        <p:spPr>
          <a:xfrm>
            <a:off x="8872560" y="6568920"/>
            <a:ext cx="326880" cy="289080"/>
          </a:xfrm>
          <a:custGeom>
            <a:avLst/>
            <a:gdLst>
              <a:gd name="textAreaLeft" fmla="*/ 18720 w 326880"/>
              <a:gd name="textAreaRight" fmla="*/ 308160 w 3268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4421" h="21600">
                <a:moveTo>
                  <a:pt x="0" y="0"/>
                </a:moveTo>
                <a:lnTo>
                  <a:pt x="24421" y="0"/>
                </a:lnTo>
                <a:lnTo>
                  <a:pt x="24421" y="21600"/>
                </a:lnTo>
                <a:lnTo>
                  <a:pt x="0" y="21600"/>
                </a:lnTo>
                <a:close/>
              </a:path>
              <a:path fill="lightenLess" w="24421" h="21600">
                <a:moveTo>
                  <a:pt x="0" y="0"/>
                </a:moveTo>
                <a:lnTo>
                  <a:pt x="24421" y="0"/>
                </a:lnTo>
                <a:lnTo>
                  <a:pt x="23021" y="1400"/>
                </a:lnTo>
                <a:lnTo>
                  <a:pt x="1400" y="1400"/>
                </a:lnTo>
                <a:close/>
              </a:path>
              <a:path fill="darken" w="24421" h="21600">
                <a:moveTo>
                  <a:pt x="24421" y="0"/>
                </a:moveTo>
                <a:lnTo>
                  <a:pt x="24421" y="21600"/>
                </a:lnTo>
                <a:lnTo>
                  <a:pt x="23021" y="20200"/>
                </a:lnTo>
                <a:lnTo>
                  <a:pt x="23021" y="1400"/>
                </a:lnTo>
                <a:close/>
              </a:path>
              <a:path fill="darkenLess" w="24421" h="21600">
                <a:moveTo>
                  <a:pt x="244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21" y="20200"/>
                </a:lnTo>
                <a:close/>
              </a:path>
              <a:path fill="lighten" w="244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21" h="21600">
                <a:moveTo>
                  <a:pt x="1221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421" h="21600">
                <a:moveTo>
                  <a:pt x="1221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421" h="21600">
                <a:moveTo>
                  <a:pt x="9634" y="8224"/>
                </a:moveTo>
                <a:lnTo>
                  <a:pt x="13499" y="8224"/>
                </a:lnTo>
                <a:lnTo>
                  <a:pt x="13499" y="15221"/>
                </a:lnTo>
                <a:lnTo>
                  <a:pt x="14787" y="15221"/>
                </a:lnTo>
                <a:lnTo>
                  <a:pt x="14787" y="16144"/>
                </a:lnTo>
                <a:lnTo>
                  <a:pt x="9634" y="16144"/>
                </a:lnTo>
                <a:lnTo>
                  <a:pt x="9634" y="15221"/>
                </a:lnTo>
                <a:lnTo>
                  <a:pt x="10922" y="15221"/>
                </a:lnTo>
                <a:lnTo>
                  <a:pt x="10922" y="9129"/>
                </a:lnTo>
                <a:lnTo>
                  <a:pt x="9634" y="912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7093080" y="154080"/>
            <a:ext cx="1881000" cy="876240"/>
            <a:chOff x="7093080" y="154080"/>
            <a:chExt cx="1881000" cy="876240"/>
          </a:xfrm>
        </p:grpSpPr>
        <p:grpSp>
          <p:nvGrpSpPr>
            <p:cNvPr id="443" name=""/>
            <p:cNvGrpSpPr/>
            <p:nvPr/>
          </p:nvGrpSpPr>
          <p:grpSpPr>
            <a:xfrm>
              <a:off x="8058240" y="155520"/>
              <a:ext cx="915840" cy="873360"/>
              <a:chOff x="8058240" y="155520"/>
              <a:chExt cx="915840" cy="873360"/>
            </a:xfrm>
          </p:grpSpPr>
          <p:sp>
            <p:nvSpPr>
              <p:cNvPr id="444" name=""/>
              <p:cNvSpPr/>
              <p:nvPr/>
            </p:nvSpPr>
            <p:spPr>
              <a:xfrm>
                <a:off x="8058240" y="155520"/>
                <a:ext cx="915840" cy="871560"/>
              </a:xfrm>
              <a:custGeom>
                <a:avLst/>
                <a:gdLst/>
                <a:ahLst/>
                <a:rect l="l" t="t" r="r" b="b"/>
                <a:pathLst>
                  <a:path w="577" h="555">
                    <a:moveTo>
                      <a:pt x="0" y="0"/>
                    </a:moveTo>
                    <a:lnTo>
                      <a:pt x="0" y="555"/>
                    </a:lnTo>
                    <a:lnTo>
                      <a:pt x="576" y="555"/>
                    </a:lnTo>
                    <a:lnTo>
                      <a:pt x="577" y="156"/>
                    </a:lnTo>
                    <a:lnTo>
                      <a:pt x="4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0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t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061480" y="861840"/>
                <a:ext cx="9111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0" bIns="864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Jerr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7093080" y="154080"/>
              <a:ext cx="915840" cy="876240"/>
            </a:xfrm>
            <a:prstGeom prst="rect">
              <a:avLst/>
            </a:pr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864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Jan 19, 200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M-Alpha to M0 main activit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380520" y="498132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4000" y="1046160"/>
            <a:ext cx="8496000" cy="36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commitment from Product House is Delivery Start in end October 2006. Detailed project schedule not yet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 from Vodafone is DS in beginning September 2006, so as to ramp up in-time for their year end/Christmas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decision to use SGL platform, TPM is the midst of clarifying resources and effort, and checking possibility of DS earlier than end Octo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M-Alpha Teams Composi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380520" y="498132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"/>
              </a:rPr>
              <a:t>Team set-up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8360" y="1197000"/>
            <a:ext cx="8207280" cy="446400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0" tIns="180000" bIns="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erry M-alpha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PM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heng-Wah Koh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PM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rs Bonde, Shuai Zh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dafone interface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ary Vincent, Thomas Bartl, Monika Re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inhold Mair, Gina J G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E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lemens Lut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ign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udolf Voigt, Pearl Ch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M-Alpha Repor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380520" y="498132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156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d2435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6d2435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6d2435"/>
                </a:solidFill>
                <a:latin typeface="Arial"/>
              </a:rPr>
              <a:t> Cockpit – 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Jerry</a:t>
            </a:r>
            <a:br>
              <a:rPr sz="1800"/>
            </a:br>
            <a:r>
              <a:rPr b="0" lang="en-US" sz="1400" spc="-1" strike="noStrike">
                <a:solidFill>
                  <a:srgbClr val="3a0e66"/>
                </a:solidFill>
                <a:latin typeface="Arial"/>
              </a:rPr>
              <a:t>Vodafone Simply phone</a:t>
            </a:r>
            <a:endParaRPr b="1" lang="en-US" sz="1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36680" y="1052640"/>
            <a:ext cx="973080" cy="269640"/>
          </a:xfrm>
          <a:prstGeom prst="rect">
            <a:avLst/>
          </a:prstGeom>
          <a:solidFill>
            <a:srgbClr val="7b99a3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PMingLiU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04800" y="1052640"/>
            <a:ext cx="2346480" cy="269640"/>
          </a:xfrm>
          <a:prstGeom prst="rect">
            <a:avLst/>
          </a:prstGeom>
          <a:solidFill>
            <a:srgbClr val="7b99a3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PMingLiU"/>
              </a:rPr>
              <a:t>Time to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51280" y="1052640"/>
            <a:ext cx="1889280" cy="269640"/>
          </a:xfrm>
          <a:prstGeom prst="rect">
            <a:avLst/>
          </a:prstGeom>
          <a:solidFill>
            <a:srgbClr val="7b99a3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PMingLiU"/>
              </a:rPr>
              <a:t>Financ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738760" y="1050840"/>
            <a:ext cx="2257560" cy="270000"/>
          </a:xfrm>
          <a:prstGeom prst="rect">
            <a:avLst/>
          </a:prstGeom>
          <a:solidFill>
            <a:srgbClr val="7b99a3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PMingLiU"/>
              </a:rPr>
              <a:t>Degree of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37320" y="1373040"/>
            <a:ext cx="752400" cy="45108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360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Staff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489720" y="1373040"/>
            <a:ext cx="755640" cy="451080"/>
          </a:xfrm>
          <a:prstGeom prst="rect">
            <a:avLst/>
          </a:prstGeom>
          <a:solidFill>
            <a:srgbClr val="d9e4e5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360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PMingLiU"/>
              </a:rPr>
              <a:t>Mechanic /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245360" y="1374840"/>
            <a:ext cx="744480" cy="450720"/>
          </a:xfrm>
          <a:prstGeom prst="rect">
            <a:avLst/>
          </a:prstGeom>
          <a:solidFill>
            <a:srgbClr val="d9e4e5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360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PMingLiU"/>
              </a:rPr>
              <a:t>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742000" y="1373040"/>
            <a:ext cx="747720" cy="900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489720" y="1373040"/>
            <a:ext cx="755640" cy="900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245360" y="1373040"/>
            <a:ext cx="747720" cy="900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21280" y="1825560"/>
            <a:ext cx="360360" cy="449280"/>
          </a:xfrm>
          <a:prstGeom prst="rect">
            <a:avLst/>
          </a:prstGeom>
          <a:noFill/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92640" y="1825560"/>
            <a:ext cx="49860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91240" y="1825560"/>
            <a:ext cx="46656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92640" y="2049480"/>
            <a:ext cx="498600" cy="225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91240" y="2049480"/>
            <a:ext cx="466560" cy="225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51280" y="1374840"/>
            <a:ext cx="1889280" cy="22536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92640" y="1600200"/>
            <a:ext cx="49860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GM €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91240" y="1600200"/>
            <a:ext cx="46656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GM 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257800" y="1600200"/>
            <a:ext cx="48276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St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130560" y="1825560"/>
            <a:ext cx="360360" cy="449280"/>
          </a:xfrm>
          <a:prstGeom prst="rect">
            <a:avLst/>
          </a:prstGeom>
          <a:noFill/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352680" y="1825560"/>
            <a:ext cx="505080" cy="4492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22440" y="1825560"/>
            <a:ext cx="45396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Dec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422440" y="2049480"/>
            <a:ext cx="453960" cy="225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Feb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962000" y="1374840"/>
            <a:ext cx="1440000" cy="44928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63800" y="1374840"/>
            <a:ext cx="1888920" cy="22536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411280" y="1600200"/>
            <a:ext cx="46512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76400" y="1600200"/>
            <a:ext cx="47628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352680" y="1600200"/>
            <a:ext cx="49860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St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962000" y="1374840"/>
            <a:ext cx="1890720" cy="90000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2000" y="1374840"/>
            <a:ext cx="1887840" cy="4492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504800" y="1374840"/>
            <a:ext cx="460440" cy="44928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36000" anchor="b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34880" y="1374840"/>
            <a:ext cx="7554960" cy="90000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4880" y="1374840"/>
            <a:ext cx="974880" cy="900000"/>
          </a:xfrm>
          <a:prstGeom prst="rect">
            <a:avLst/>
          </a:prstGeom>
          <a:solidFill>
            <a:srgbClr val="8000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PMingLiU"/>
              </a:rPr>
              <a:t>Jer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PMingLiU"/>
              </a:rPr>
              <a:t>CP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PMingLiU"/>
              </a:rPr>
              <a:t>Kheng-Wah Ko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742000" y="1825560"/>
            <a:ext cx="74916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0 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  <a:ea typeface="PMingLiU"/>
              </a:rPr>
              <a:t>→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  10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491160" y="1825560"/>
            <a:ext cx="75096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0 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  <a:ea typeface="PMingLiU"/>
              </a:rPr>
              <a:t>→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  10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240680" y="1825560"/>
            <a:ext cx="74916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0 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  <a:ea typeface="PMingLiU"/>
              </a:rPr>
              <a:t>→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  10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844800" y="1598760"/>
            <a:ext cx="449280" cy="22356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Volu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52720" y="1374840"/>
            <a:ext cx="1887840" cy="4492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42000" y="2049480"/>
            <a:ext cx="79200" cy="223920"/>
          </a:xfrm>
          <a:prstGeom prst="rect">
            <a:avLst/>
          </a:prstGeom>
          <a:solidFill>
            <a:srgbClr val="969696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00840" y="2049480"/>
            <a:ext cx="24912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249960" y="2049480"/>
            <a:ext cx="23976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489720" y="2049480"/>
            <a:ext cx="244440" cy="223920"/>
          </a:xfrm>
          <a:prstGeom prst="rect">
            <a:avLst/>
          </a:prstGeom>
          <a:solidFill>
            <a:srgbClr val="969696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00920" y="2049480"/>
            <a:ext cx="24444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242120" y="2049480"/>
            <a:ext cx="71640" cy="223920"/>
          </a:xfrm>
          <a:prstGeom prst="rect">
            <a:avLst/>
          </a:prstGeom>
          <a:solidFill>
            <a:srgbClr val="969696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518240" y="2049480"/>
            <a:ext cx="24300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761240" y="2049480"/>
            <a:ext cx="22860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967040" y="1598760"/>
            <a:ext cx="449280" cy="22356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l-GR" sz="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962000" y="1825560"/>
            <a:ext cx="460440" cy="2224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44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Nov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62000" y="2048040"/>
            <a:ext cx="462240" cy="22680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44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Jan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504800" y="1825560"/>
            <a:ext cx="457200" cy="2224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44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PMingLiU"/>
              </a:rPr>
              <a:t>Targ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504800" y="2048040"/>
            <a:ext cx="457200" cy="22680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Cur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852720" y="1825560"/>
            <a:ext cx="443160" cy="2224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44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450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51280" y="2048040"/>
            <a:ext cx="442800" cy="22680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44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450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996320" y="1052640"/>
            <a:ext cx="619200" cy="269640"/>
          </a:xfrm>
          <a:prstGeom prst="rect">
            <a:avLst/>
          </a:prstGeom>
          <a:solidFill>
            <a:srgbClr val="7b99a3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PMingLiU"/>
              </a:rPr>
              <a:t>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312040" y="1824120"/>
            <a:ext cx="239760" cy="449280"/>
          </a:xfrm>
          <a:prstGeom prst="rect">
            <a:avLst/>
          </a:prstGeom>
          <a:noFill/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996320" y="1373040"/>
            <a:ext cx="619200" cy="449280"/>
          </a:xfrm>
          <a:prstGeom prst="rect">
            <a:avLst/>
          </a:prstGeom>
          <a:solidFill>
            <a:srgbClr val="d9e4e5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360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PMingLiU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996320" y="1822320"/>
            <a:ext cx="619200" cy="4510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Aalborg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Beij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372280" y="1930320"/>
            <a:ext cx="228600" cy="2286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742080" y="2050920"/>
            <a:ext cx="25884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36680" y="2430360"/>
            <a:ext cx="8245440" cy="3735360"/>
          </a:xfrm>
          <a:prstGeom prst="rect">
            <a:avLst/>
          </a:prstGeom>
          <a:solidFill>
            <a:srgbClr val="f2f5f6"/>
          </a:solidFill>
          <a:ln w="0">
            <a:noFill/>
          </a:ln>
          <a:effectLst>
            <a:outerShdw dist="17819" dir="2700000" blurRad="0" rotWithShape="0">
              <a:srgbClr val="9092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Much delays in confirming PH site and PD re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Decision to switch to SGL platform has just been made. Detailed technical, effort and timing evaluation of VF Simply requirements are still progress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Launch price has a very good margin over the previous EGR BOM. However, this needs to be re-evaluated with the decision to use SG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Significant cross sites coordination required due to PD resources constraints and this can adversely impact the already challenging TTM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Business case uncertainty due SGL BOM and PD cost not yet known as effort evaluation still in prog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Ramping up REA and PD team asap and catch up on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97400" y="1917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882880" y="1827360"/>
            <a:ext cx="469800" cy="2235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Sep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882880" y="2052720"/>
            <a:ext cx="46980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65530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Arial"/>
              </a:rPr>
              <a:t>Document Change History for Jerry M-Alpha Declaration</a:t>
            </a:r>
            <a:endParaRPr b="1" lang="en-US" sz="2000" spc="-1" strike="noStrike">
              <a:solidFill>
                <a:srgbClr val="3a0e66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341360"/>
          <a:ext cx="8280360" cy="4624560"/>
        </p:xfrm>
        <a:graphic>
          <a:graphicData uri="http://schemas.openxmlformats.org/drawingml/2006/table">
            <a:tbl>
              <a:tblPr/>
              <a:tblGrid>
                <a:gridCol w="503280"/>
                <a:gridCol w="1079280"/>
                <a:gridCol w="1729080"/>
                <a:gridCol w="4968720"/>
              </a:tblGrid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to 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1.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eng-Wah Ko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ver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279360"/>
            <a:ext cx="82818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Need Based Consumer Experience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(Target at M-Alp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320" y="1189080"/>
            <a:ext cx="8708760" cy="72720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Consumer need (Reassur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I need a easy-to-use phone only for voice calls and texting, to keep in touch easily with family and frien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 phone should be uncomplicated and comes with built-in helpful ti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974960"/>
            <a:ext cx="8709120" cy="80640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Current 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I find most of the phones out in the market too complicated to use, they have too many features and too complicated user interface. I would like to have a phone that has a practical/functional design and easy to use user interf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320" y="2800440"/>
            <a:ext cx="8708760" cy="53172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Future 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I would like to own a phone that has a functional design, easy to use user interface, and comes with only features that I would use frequen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3360600"/>
            <a:ext cx="8709120" cy="57636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Surprising &amp; elegant solution (differenti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Hard keys access to frequently used features. Uncomplicated features, easy to use interface that can cater to even the most non tech-savvy consum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2240" y="3957480"/>
            <a:ext cx="8708760" cy="71928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Technical source of solution (mech., electronics, software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Mechanics based on Goldfinch/Amber stack-up with additional hard keys. EGoldradio platform. Software based on Goldfinch with major changes to User Interface according to Vodafone Simply require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4719600"/>
            <a:ext cx="8709120" cy="58428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Competitive Solutions and BenQ different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Differentiate from competitor Sagem VS1and VS2 through material finishing that gives perception of reliability and qual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5330880"/>
            <a:ext cx="8709120" cy="100656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81080" indent="-168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Total Consumer Experience (extension of the benefit / solu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68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A “common sense” mobile phone together  with Vodafone Simply program, which provides simple and clear tariffs plans, offer consumers a reliable straight-forward mobile solu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68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0600" y="747360"/>
            <a:ext cx="870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Arial"/>
                <a:ea typeface="PMingLiU"/>
              </a:rPr>
              <a:t>Jerry – Vodafone Simply</a:t>
            </a:r>
            <a:br>
              <a:rPr sz="3200"/>
            </a:br>
            <a:r>
              <a:rPr b="1" lang="en-US" sz="3200" spc="-1" strike="noStrike">
                <a:solidFill>
                  <a:srgbClr val="3a0e66"/>
                </a:solidFill>
                <a:latin typeface="Arial"/>
                <a:ea typeface="PMingLiU"/>
              </a:rPr>
              <a:t> </a:t>
            </a: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Window of Opportunity </a:t>
            </a:r>
            <a:endParaRPr b="1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093080" y="154080"/>
            <a:ext cx="1881000" cy="876240"/>
            <a:chOff x="7093080" y="154080"/>
            <a:chExt cx="1881000" cy="876240"/>
          </a:xfrm>
        </p:grpSpPr>
        <p:grpSp>
          <p:nvGrpSpPr>
            <p:cNvPr id="98" name=""/>
            <p:cNvGrpSpPr/>
            <p:nvPr/>
          </p:nvGrpSpPr>
          <p:grpSpPr>
            <a:xfrm>
              <a:off x="8058240" y="155520"/>
              <a:ext cx="915840" cy="873360"/>
              <a:chOff x="8058240" y="155520"/>
              <a:chExt cx="915840" cy="873360"/>
            </a:xfrm>
          </p:grpSpPr>
          <p:sp>
            <p:nvSpPr>
              <p:cNvPr id="99" name=""/>
              <p:cNvSpPr/>
              <p:nvPr/>
            </p:nvSpPr>
            <p:spPr>
              <a:xfrm>
                <a:off x="8058240" y="155520"/>
                <a:ext cx="915840" cy="871560"/>
              </a:xfrm>
              <a:custGeom>
                <a:avLst/>
                <a:gdLst/>
                <a:ahLst/>
                <a:rect l="l" t="t" r="r" b="b"/>
                <a:pathLst>
                  <a:path w="577" h="555">
                    <a:moveTo>
                      <a:pt x="0" y="0"/>
                    </a:moveTo>
                    <a:lnTo>
                      <a:pt x="0" y="555"/>
                    </a:lnTo>
                    <a:lnTo>
                      <a:pt x="576" y="555"/>
                    </a:lnTo>
                    <a:lnTo>
                      <a:pt x="577" y="156"/>
                    </a:lnTo>
                    <a:lnTo>
                      <a:pt x="4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0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t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61480" y="861840"/>
                <a:ext cx="9111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0" bIns="86400" anchor="b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  <a:ea typeface="PMingLiU"/>
                  </a:rPr>
                  <a:t>Jerr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7093080" y="154080"/>
              <a:ext cx="915840" cy="876240"/>
            </a:xfrm>
            <a:prstGeom prst="rect">
              <a:avLst/>
            </a:pr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86400" anchor="b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Launch 09/0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962680" y="4597560"/>
            <a:ext cx="2822400" cy="1697040"/>
            <a:chOff x="5962680" y="4597560"/>
            <a:chExt cx="2822400" cy="1697040"/>
          </a:xfrm>
        </p:grpSpPr>
        <p:sp>
          <p:nvSpPr>
            <p:cNvPr id="103" name=""/>
            <p:cNvSpPr/>
            <p:nvPr/>
          </p:nvSpPr>
          <p:spPr>
            <a:xfrm>
              <a:off x="5962680" y="4597560"/>
              <a:ext cx="2822400" cy="169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5840" rIns="0" tIns="0" bIns="0" anchor="ctr">
              <a:noAutofit/>
            </a:bodyPr>
            <a:p>
              <a:pPr marL="182520" indent="-18252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58436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010920" y="4628520"/>
              <a:ext cx="2773440" cy="1553400"/>
              <a:chOff x="6010920" y="4628520"/>
              <a:chExt cx="2773440" cy="1553400"/>
            </a:xfrm>
          </p:grpSpPr>
          <p:sp>
            <p:nvSpPr>
              <p:cNvPr id="105" name=""/>
              <p:cNvSpPr/>
              <p:nvPr/>
            </p:nvSpPr>
            <p:spPr>
              <a:xfrm>
                <a:off x="6699960" y="5423040"/>
                <a:ext cx="71280" cy="1728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687360" y="5353200"/>
                <a:ext cx="12240" cy="90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99960" y="53622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10760" y="537948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458760" y="4723200"/>
                <a:ext cx="128880" cy="5400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42640" y="4701240"/>
                <a:ext cx="38520" cy="2160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00240" y="4696920"/>
                <a:ext cx="41760" cy="2916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646680" y="4705920"/>
                <a:ext cx="29520" cy="2952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424560" y="4765320"/>
                <a:ext cx="161280" cy="774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91240" y="4779000"/>
                <a:ext cx="46440" cy="4968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92680" y="4744800"/>
                <a:ext cx="54000" cy="2808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681240" y="4780800"/>
                <a:ext cx="191520" cy="17856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668640" y="4892400"/>
                <a:ext cx="54000" cy="5904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710760" y="494244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662520" y="4636080"/>
                <a:ext cx="248760" cy="10836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653160" y="4740120"/>
                <a:ext cx="119880" cy="3852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813360" y="4628520"/>
                <a:ext cx="433800" cy="36648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138800" y="4892400"/>
                <a:ext cx="82440" cy="5148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10920" y="4768200"/>
                <a:ext cx="896040" cy="75240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606720" y="5472720"/>
                <a:ext cx="399600" cy="70920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08160" y="5370120"/>
                <a:ext cx="91440" cy="3852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681240" y="5409000"/>
                <a:ext cx="71280" cy="1548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51720" y="5421600"/>
                <a:ext cx="29160" cy="1044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68640" y="5339160"/>
                <a:ext cx="12240" cy="7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681240" y="534672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92040" y="536544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57520" y="5245560"/>
                <a:ext cx="572040" cy="74520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53600" y="5735520"/>
                <a:ext cx="59040" cy="13212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58520" y="5537880"/>
                <a:ext cx="26280" cy="4356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272360" y="4995000"/>
                <a:ext cx="57240" cy="12276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238160" y="5047920"/>
                <a:ext cx="35280" cy="5436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395120" y="4696920"/>
                <a:ext cx="105840" cy="5868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455960" y="4696920"/>
                <a:ext cx="60480" cy="1836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87800" y="4754160"/>
                <a:ext cx="116640" cy="9288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751520" y="4687200"/>
                <a:ext cx="23040" cy="93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724880" y="468720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706520" y="4673520"/>
                <a:ext cx="15480" cy="154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44240" y="4682520"/>
                <a:ext cx="68400" cy="2772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38160" y="4768200"/>
                <a:ext cx="1473120" cy="88164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414280" y="5100840"/>
                <a:ext cx="46440" cy="12276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357040" y="5236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37680" y="5213160"/>
                <a:ext cx="34200" cy="3420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296200" y="5401080"/>
                <a:ext cx="24480" cy="3888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291160" y="5466600"/>
                <a:ext cx="38880" cy="763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204040" y="5573880"/>
                <a:ext cx="81000" cy="10260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285400" y="5623560"/>
                <a:ext cx="55800" cy="838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308440" y="5547600"/>
                <a:ext cx="48240" cy="4500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078040" y="5581800"/>
                <a:ext cx="104400" cy="11808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191800" y="5699880"/>
                <a:ext cx="155520" cy="3852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370720" y="5650200"/>
                <a:ext cx="268920" cy="10692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599680" y="4855320"/>
                <a:ext cx="39960" cy="2016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285400" y="4779000"/>
                <a:ext cx="110160" cy="2808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72440" y="5519160"/>
                <a:ext cx="18360" cy="4176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76960" y="5519160"/>
                <a:ext cx="7560" cy="4680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76560" y="5147640"/>
                <a:ext cx="43560" cy="5256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59920" y="5320440"/>
                <a:ext cx="26280" cy="3420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31840" y="5374800"/>
                <a:ext cx="49680" cy="2952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74480" y="5664240"/>
                <a:ext cx="32760" cy="2448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19840" y="5673600"/>
                <a:ext cx="83880" cy="4176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13760" y="5748120"/>
                <a:ext cx="343440" cy="29052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34440" y="6048360"/>
                <a:ext cx="43560" cy="3996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678880" y="5996880"/>
                <a:ext cx="51480" cy="6696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604360" y="6059520"/>
                <a:ext cx="74160" cy="759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636760" y="5847840"/>
                <a:ext cx="31320" cy="2628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737920" y="5810400"/>
                <a:ext cx="46440" cy="3420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666280" y="5785200"/>
                <a:ext cx="32760" cy="5148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33680" y="4685760"/>
                <a:ext cx="108720" cy="6840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76400" y="5187960"/>
                <a:ext cx="20160" cy="4824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329960" y="521928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505640" y="5258160"/>
                <a:ext cx="23400" cy="1368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555680" y="527220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258320" y="501372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01880" y="4970520"/>
                <a:ext cx="12240" cy="198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87360" y="5166360"/>
                <a:ext cx="23040" cy="28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56400" y="5177160"/>
                <a:ext cx="27720" cy="756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5958000" y="1028880"/>
            <a:ext cx="2826720" cy="1766880"/>
            <a:chOff x="5958000" y="1028880"/>
            <a:chExt cx="2826720" cy="176688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5958000" y="1103040"/>
              <a:ext cx="2820600" cy="157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959080" y="1028880"/>
              <a:ext cx="2825640" cy="1766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680080" y="1031760"/>
            <a:ext cx="282600" cy="526284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b09fc2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82720" y="1068480"/>
            <a:ext cx="4797360" cy="6919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840" rIns="0" tIns="0" bIns="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9704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Jerry is part of a “package deal” for Vodafone together with Kestrel and Merlin. Support the growth of Vodafone Simply customer base with Jer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82720" y="5011560"/>
            <a:ext cx="4797360" cy="12909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840" rIns="0" tIns="0" bIns="0" anchor="ctr">
            <a:noAutofit/>
          </a:bodyPr>
          <a:p>
            <a:pPr marL="260280" indent="-26028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60280"/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implicity – easy to use mobile pho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for practical consu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60280"/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Conven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90000"/>
              </a:lnSpc>
              <a:spcBef>
                <a:spcPts val="374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60280"/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Make calls and send SMS to friends and fami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60280"/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Fulfill Vodafone Simply requir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82720" y="3336840"/>
            <a:ext cx="4797360" cy="16304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840" rIns="0" tIns="0" bIns="0" anchor="ctr">
            <a:no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EG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14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€90 at launch,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€65 EO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09/06, ~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300k committed by VF, target 450k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ove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82720" y="1797120"/>
            <a:ext cx="4797360" cy="1493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840" rIns="0" tIns="0" bIns="0" anchor="ctr">
            <a:no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Reassurance, VF Adult Perso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Use/Mature Basic U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WE, EE, (Australia/NZ t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% op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Exclusive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odaf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agem VS1, Sagem VS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161640" y="1068480"/>
            <a:ext cx="649080" cy="691920"/>
          </a:xfrm>
          <a:prstGeom prst="rect">
            <a:avLst/>
          </a:prstGeom>
          <a:solidFill>
            <a:srgbClr val="42677f"/>
          </a:solidFill>
          <a:ln w="9360">
            <a:solidFill>
              <a:srgbClr val="b09f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161640" y="5011560"/>
            <a:ext cx="649080" cy="1290960"/>
          </a:xfrm>
          <a:prstGeom prst="rect">
            <a:avLst/>
          </a:prstGeom>
          <a:solidFill>
            <a:srgbClr val="3a0e66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161640" y="3336480"/>
            <a:ext cx="649080" cy="1629000"/>
          </a:xfrm>
          <a:prstGeom prst="rect">
            <a:avLst/>
          </a:prstGeom>
          <a:solidFill>
            <a:srgbClr val="b09fc2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161640" y="1795320"/>
            <a:ext cx="649080" cy="1494000"/>
          </a:xfrm>
          <a:prstGeom prst="rect">
            <a:avLst/>
          </a:prstGeom>
          <a:solidFill>
            <a:srgbClr val="b09fc2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078680" y="4772160"/>
            <a:ext cx="577800" cy="503280"/>
            <a:chOff x="7078680" y="4772160"/>
            <a:chExt cx="577800" cy="503280"/>
          </a:xfrm>
        </p:grpSpPr>
        <p:sp>
          <p:nvSpPr>
            <p:cNvPr id="193" name=""/>
            <p:cNvSpPr/>
            <p:nvPr/>
          </p:nvSpPr>
          <p:spPr>
            <a:xfrm>
              <a:off x="7236360" y="4908960"/>
              <a:ext cx="259560" cy="226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81720" y="4948920"/>
              <a:ext cx="171720" cy="149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78680" y="5022360"/>
              <a:ext cx="5778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7367760" y="4772160"/>
              <a:ext cx="360" cy="5032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586640" y="4771800"/>
            <a:ext cx="352440" cy="323640"/>
            <a:chOff x="7586640" y="4771800"/>
            <a:chExt cx="352440" cy="323640"/>
          </a:xfrm>
        </p:grpSpPr>
        <p:sp>
          <p:nvSpPr>
            <p:cNvPr id="198" name=""/>
            <p:cNvSpPr/>
            <p:nvPr/>
          </p:nvSpPr>
          <p:spPr>
            <a:xfrm>
              <a:off x="7682760" y="4860000"/>
              <a:ext cx="158400" cy="145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10480" y="4885920"/>
              <a:ext cx="104760" cy="96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86640" y="4933080"/>
              <a:ext cx="3524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763040" y="4771800"/>
              <a:ext cx="360" cy="3236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156360" y="1988640"/>
            <a:ext cx="706320" cy="646200"/>
            <a:chOff x="6156360" y="1988640"/>
            <a:chExt cx="706320" cy="646200"/>
          </a:xfrm>
        </p:grpSpPr>
        <p:sp>
          <p:nvSpPr>
            <p:cNvPr id="203" name=""/>
            <p:cNvSpPr/>
            <p:nvPr/>
          </p:nvSpPr>
          <p:spPr>
            <a:xfrm>
              <a:off x="6349320" y="2164680"/>
              <a:ext cx="317520" cy="290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04400" y="2216160"/>
              <a:ext cx="209880" cy="191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56360" y="2310480"/>
              <a:ext cx="7063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509520" y="1988640"/>
              <a:ext cx="720" cy="6462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8172360" y="5660640"/>
            <a:ext cx="495360" cy="452520"/>
            <a:chOff x="8172360" y="5660640"/>
            <a:chExt cx="495360" cy="452520"/>
          </a:xfrm>
        </p:grpSpPr>
        <p:sp>
          <p:nvSpPr>
            <p:cNvPr id="208" name=""/>
            <p:cNvSpPr/>
            <p:nvPr/>
          </p:nvSpPr>
          <p:spPr>
            <a:xfrm>
              <a:off x="8307720" y="5783760"/>
              <a:ext cx="222480" cy="203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46240" y="5820120"/>
              <a:ext cx="147240" cy="134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2360" y="5886000"/>
              <a:ext cx="495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8420040" y="5660640"/>
              <a:ext cx="360" cy="452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 txBox="1"/>
          <p:nvPr/>
        </p:nvSpPr>
        <p:spPr>
          <a:xfrm>
            <a:off x="6012000" y="476280"/>
            <a:ext cx="1323720" cy="495360"/>
          </a:xfrm>
          <a:prstGeom prst="rect">
            <a:avLst/>
          </a:prstGeom>
        </p:spPr>
        <p:txBody>
          <a:bodyPr wrap="none" lIns="0" rIns="0" tIns="0" bIns="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AF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Jerry </a:t>
            </a:r>
            <a:br>
              <a:rPr sz="2400"/>
            </a:br>
            <a:r>
              <a:rPr b="1" i="1" lang="en-GB" sz="1800" spc="-1" strike="noStrike">
                <a:solidFill>
                  <a:srgbClr val="3a0e66"/>
                </a:solidFill>
                <a:latin typeface="Arial"/>
              </a:rPr>
              <a:t>Vodafone Simply</a:t>
            </a:r>
            <a:endParaRPr b="1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69920" y="1557360"/>
          <a:ext cx="8840880" cy="459432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109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700"/>
                      </a:b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700"/>
                      </a:b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700"/>
                      </a:br>
                      <a:r>
                        <a:rPr b="0" i="1" lang="en-US" sz="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700"/>
                      </a:br>
                      <a:r>
                        <a:rPr b="0" i="1" lang="en-US" sz="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lent keypad tactile. Additional keys and easy to use UI as per VF Simply requiremen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4111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 form factor, finishing should give high perceived  quality and reliability. &lt;85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2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requir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53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AMR/MIDI/Wav polyphonic rington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requ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10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requ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Voice Messaging via MM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9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F request for downloadable application via USB – request on-hold due to EGR technical feasibility issu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. 120x160 pixel, 64k color, 2.0’’ L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F request for USB connectivity – request currently on-hol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-by time &gt;300h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k time &gt; 300 m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MB user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2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fill VF Simply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conversion”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54120" y="6284880"/>
            <a:ext cx="7451640" cy="5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ighly challenging project schedu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D resources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1360" y="6284880"/>
            <a:ext cx="1297080" cy="528840"/>
          </a:xfrm>
          <a:prstGeom prst="rect">
            <a:avLst/>
          </a:prstGeom>
          <a:solidFill>
            <a:srgbClr val="3a0e66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12000" y="476280"/>
            <a:ext cx="1323720" cy="495360"/>
          </a:xfrm>
          <a:prstGeom prst="rect">
            <a:avLst/>
          </a:prstGeom>
        </p:spPr>
        <p:txBody>
          <a:bodyPr wrap="none" lIns="0" rIns="0" tIns="0" bIns="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AF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675240" y="2700360"/>
            <a:ext cx="333360" cy="2384280"/>
          </a:xfrm>
          <a:prstGeom prst="rightArrow">
            <a:avLst>
              <a:gd name="adj1" fmla="val 51500"/>
              <a:gd name="adj2" fmla="val 100000"/>
            </a:avLst>
          </a:prstGeom>
          <a:solidFill>
            <a:srgbClr val="b09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6000" y="1484280"/>
            <a:ext cx="1728720" cy="24447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27680" y="3929040"/>
            <a:ext cx="4037040" cy="23511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marL="256680" indent="-174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pecial button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able user to access the commonly used features easi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asy to use User Interfac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igned to Vodafone Simply specif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Large displa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llow the older aged users to view numbers and messages with no difficul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RE CATEGORY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ffordable 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assurance, VF’s APU/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ME POSI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67280" y="3929040"/>
            <a:ext cx="860400" cy="2351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sumer Value pro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27680" y="2468520"/>
            <a:ext cx="2308320" cy="14605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city – easy to use mobile phone for practical consum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67280" y="2468520"/>
            <a:ext cx="860400" cy="1460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lling pro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440" y="4946760"/>
            <a:ext cx="3068640" cy="157788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der: f/m = 50: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 Focus: &gt;4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, EE, Australia/N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e: mi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festage: middle-aged, empty ne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6680" y="4946760"/>
            <a:ext cx="374760" cy="15778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rmAutofit fontScale="98000"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mo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440" y="3897360"/>
            <a:ext cx="3068640" cy="10494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26676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F’s Adult Personal User (APU)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 a hectic life and want to be in control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alue driven - cautious money managers who rely on tried and trusted br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F’s Mature Basic: Typically older aged, empty ne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6680" y="3897360"/>
            <a:ext cx="374760" cy="1049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rm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fes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6680" y="3551400"/>
            <a:ext cx="3443400" cy="345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Target Group (Who)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27680" y="1484280"/>
            <a:ext cx="2308320" cy="9842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rry is part of a “package deal” for Vodafone together with Kestrel and Merlin. Support the growth of Vodafone Simply customer base with Jerr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67280" y="1484280"/>
            <a:ext cx="860400" cy="9842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rategy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6640" y="1484280"/>
            <a:ext cx="3043440" cy="2067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y phone should not be complicated and have too many features that I don’t use frequent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 should be convenient &amp; contains self-explaining featu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need a mobile for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curity/emergencies and family contact, it is not core to my life and I only used it when away from fixed li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’m value driven - cautious money managers who rely on tried and trusted br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 have low technology engage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67280" y="1125360"/>
            <a:ext cx="4897440" cy="358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Selling &amp; Value Proposition (What)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10080" y="1125360"/>
            <a:ext cx="45720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6680" y="1125360"/>
            <a:ext cx="3443400" cy="358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Target Group Benefits (Why)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6680" y="1484280"/>
            <a:ext cx="34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6680" y="3551400"/>
            <a:ext cx="34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6680" y="3897360"/>
            <a:ext cx="34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39280" y="3897360"/>
            <a:ext cx="1800" cy="262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6680" y="4946760"/>
            <a:ext cx="34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1484280"/>
            <a:ext cx="0" cy="244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10080" y="1125360"/>
            <a:ext cx="0" cy="5154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67280" y="1484280"/>
            <a:ext cx="4897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67280" y="1125360"/>
            <a:ext cx="0" cy="5154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7680" y="1484280"/>
            <a:ext cx="0" cy="4795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67280" y="2468520"/>
            <a:ext cx="316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6680" y="1125360"/>
            <a:ext cx="87980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3929040"/>
            <a:ext cx="4897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964720" y="1125360"/>
            <a:ext cx="0" cy="51548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6680" y="1125360"/>
            <a:ext cx="12600" cy="53992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392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Arial"/>
              </a:rPr>
              <a:t>Jerry  - Vodafone Simply</a:t>
            </a:r>
            <a:br>
              <a:rPr sz="3200"/>
            </a:b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Consumer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6920" y="2468520"/>
            <a:ext cx="374760" cy="10666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rm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6920" y="1521000"/>
            <a:ext cx="374760" cy="8982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rm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1680" y="1521000"/>
            <a:ext cx="0" cy="204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219400" y="4971960"/>
            <a:ext cx="1368360" cy="868320"/>
            <a:chOff x="2219400" y="4971960"/>
            <a:chExt cx="1368360" cy="868320"/>
          </a:xfrm>
        </p:grpSpPr>
        <p:grpSp>
          <p:nvGrpSpPr>
            <p:cNvPr id="269" name=""/>
            <p:cNvGrpSpPr/>
            <p:nvPr/>
          </p:nvGrpSpPr>
          <p:grpSpPr>
            <a:xfrm>
              <a:off x="2219400" y="4971960"/>
              <a:ext cx="1368360" cy="868320"/>
              <a:chOff x="2219400" y="4971960"/>
              <a:chExt cx="1368360" cy="868320"/>
            </a:xfrm>
          </p:grpSpPr>
          <p:sp>
            <p:nvSpPr>
              <p:cNvPr id="270" name=""/>
              <p:cNvSpPr/>
              <p:nvPr/>
            </p:nvSpPr>
            <p:spPr>
              <a:xfrm>
                <a:off x="2219400" y="4971960"/>
                <a:ext cx="1368360" cy="868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c83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0" tIns="0" bIns="0" anchor="ctr">
                <a:noAutofit/>
              </a:bodyPr>
              <a:p>
                <a:pPr marL="185760" indent="-185760">
                  <a:lnSpc>
                    <a:spcPct val="120000"/>
                  </a:lnSpc>
                  <a:buClr>
                    <a:srgbClr val="6d2435"/>
                  </a:buClr>
                  <a:buSzPct val="150000"/>
                  <a:buFont typeface="Wingdings" charset="2"/>
                  <a:buChar char=""/>
                  <a:tabLst>
                    <a:tab algn="l" pos="16160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2242800" y="4987800"/>
                <a:ext cx="1344600" cy="794880"/>
                <a:chOff x="2242800" y="4987800"/>
                <a:chExt cx="1344600" cy="7948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576880" y="5394240"/>
                  <a:ext cx="34560" cy="8640"/>
                </a:xfrm>
                <a:custGeom>
                  <a:avLst/>
                  <a:gdLst/>
                  <a:ahLst/>
                  <a:rect l="l" t="t" r="r" b="b"/>
                  <a:pathLst>
                    <a:path w="92" h="22">
                      <a:moveTo>
                        <a:pt x="92" y="17"/>
                      </a:moveTo>
                      <a:lnTo>
                        <a:pt x="65" y="0"/>
                      </a:lnTo>
                      <a:lnTo>
                        <a:pt x="27" y="2"/>
                      </a:lnTo>
                      <a:lnTo>
                        <a:pt x="0" y="15"/>
                      </a:lnTo>
                      <a:lnTo>
                        <a:pt x="27" y="17"/>
                      </a:lnTo>
                      <a:lnTo>
                        <a:pt x="65" y="22"/>
                      </a:lnTo>
                      <a:lnTo>
                        <a:pt x="92" y="17"/>
                      </a:lnTo>
                      <a:lnTo>
                        <a:pt x="92" y="17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570760" y="535860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5" y="0"/>
                      </a:moveTo>
                      <a:lnTo>
                        <a:pt x="5" y="0"/>
                      </a:lnTo>
                      <a:lnTo>
                        <a:pt x="0" y="11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576880" y="536328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0"/>
                      </a:moveTo>
                      <a:lnTo>
                        <a:pt x="14" y="14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581920" y="5371920"/>
                  <a:ext cx="3600" cy="612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2" y="0"/>
                      </a:moveTo>
                      <a:lnTo>
                        <a:pt x="10" y="11"/>
                      </a:lnTo>
                      <a:lnTo>
                        <a:pt x="0" y="16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459880" y="5036040"/>
                  <a:ext cx="62280" cy="27720"/>
                </a:xfrm>
                <a:custGeom>
                  <a:avLst/>
                  <a:gdLst/>
                  <a:ahLst/>
                  <a:rect l="l" t="t" r="r" b="b"/>
                  <a:pathLst>
                    <a:path w="165" h="68">
                      <a:moveTo>
                        <a:pt x="78" y="11"/>
                      </a:moveTo>
                      <a:lnTo>
                        <a:pt x="49" y="11"/>
                      </a:lnTo>
                      <a:lnTo>
                        <a:pt x="39" y="11"/>
                      </a:lnTo>
                      <a:lnTo>
                        <a:pt x="9" y="20"/>
                      </a:lnTo>
                      <a:lnTo>
                        <a:pt x="0" y="39"/>
                      </a:lnTo>
                      <a:lnTo>
                        <a:pt x="30" y="39"/>
                      </a:lnTo>
                      <a:lnTo>
                        <a:pt x="49" y="30"/>
                      </a:lnTo>
                      <a:lnTo>
                        <a:pt x="39" y="50"/>
                      </a:lnTo>
                      <a:lnTo>
                        <a:pt x="68" y="50"/>
                      </a:lnTo>
                      <a:lnTo>
                        <a:pt x="68" y="68"/>
                      </a:lnTo>
                      <a:lnTo>
                        <a:pt x="78" y="68"/>
                      </a:lnTo>
                      <a:lnTo>
                        <a:pt x="117" y="60"/>
                      </a:lnTo>
                      <a:lnTo>
                        <a:pt x="165" y="50"/>
                      </a:lnTo>
                      <a:lnTo>
                        <a:pt x="156" y="39"/>
                      </a:lnTo>
                      <a:lnTo>
                        <a:pt x="137" y="39"/>
                      </a:lnTo>
                      <a:lnTo>
                        <a:pt x="147" y="20"/>
                      </a:lnTo>
                      <a:lnTo>
                        <a:pt x="127" y="20"/>
                      </a:lnTo>
                      <a:lnTo>
                        <a:pt x="127" y="0"/>
                      </a:lnTo>
                      <a:lnTo>
                        <a:pt x="117" y="0"/>
                      </a:lnTo>
                      <a:lnTo>
                        <a:pt x="98" y="30"/>
                      </a:lnTo>
                      <a:lnTo>
                        <a:pt x="78" y="11"/>
                      </a:lnTo>
                      <a:lnTo>
                        <a:pt x="78" y="1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500560" y="5024880"/>
                  <a:ext cx="18720" cy="11160"/>
                </a:xfrm>
                <a:custGeom>
                  <a:avLst/>
                  <a:gdLst/>
                  <a:ahLst/>
                  <a:rect l="l" t="t" r="r" b="b"/>
                  <a:pathLst>
                    <a:path w="50" h="29">
                      <a:moveTo>
                        <a:pt x="41" y="0"/>
                      </a:move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31" y="11"/>
                      </a:lnTo>
                      <a:lnTo>
                        <a:pt x="0" y="21"/>
                      </a:lnTo>
                      <a:lnTo>
                        <a:pt x="41" y="29"/>
                      </a:lnTo>
                      <a:lnTo>
                        <a:pt x="50" y="11"/>
                      </a:lnTo>
                      <a:lnTo>
                        <a:pt x="41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528640" y="5022720"/>
                  <a:ext cx="20160" cy="14760"/>
                </a:xfrm>
                <a:custGeom>
                  <a:avLst/>
                  <a:gdLst/>
                  <a:ahLst/>
                  <a:rect l="l" t="t" r="r" b="b"/>
                  <a:pathLst>
                    <a:path w="53" h="38">
                      <a:moveTo>
                        <a:pt x="53" y="36"/>
                      </a:moveTo>
                      <a:lnTo>
                        <a:pt x="53" y="25"/>
                      </a:lnTo>
                      <a:lnTo>
                        <a:pt x="38" y="18"/>
                      </a:lnTo>
                      <a:lnTo>
                        <a:pt x="19" y="0"/>
                      </a:lnTo>
                      <a:lnTo>
                        <a:pt x="2" y="0"/>
                      </a:lnTo>
                      <a:lnTo>
                        <a:pt x="0" y="12"/>
                      </a:lnTo>
                      <a:lnTo>
                        <a:pt x="16" y="20"/>
                      </a:lnTo>
                      <a:lnTo>
                        <a:pt x="2" y="25"/>
                      </a:lnTo>
                      <a:lnTo>
                        <a:pt x="2" y="38"/>
                      </a:lnTo>
                      <a:lnTo>
                        <a:pt x="32" y="29"/>
                      </a:lnTo>
                      <a:lnTo>
                        <a:pt x="43" y="30"/>
                      </a:lnTo>
                      <a:lnTo>
                        <a:pt x="43" y="36"/>
                      </a:lnTo>
                      <a:lnTo>
                        <a:pt x="53" y="36"/>
                      </a:lnTo>
                      <a:lnTo>
                        <a:pt x="53" y="36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550960" y="5027400"/>
                  <a:ext cx="14040" cy="1512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0" y="38"/>
                      </a:moveTo>
                      <a:lnTo>
                        <a:pt x="37" y="31"/>
                      </a:lnTo>
                      <a:lnTo>
                        <a:pt x="34" y="13"/>
                      </a:lnTo>
                      <a:lnTo>
                        <a:pt x="19" y="8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1" y="23"/>
                      </a:lnTo>
                      <a:lnTo>
                        <a:pt x="17" y="38"/>
                      </a:lnTo>
                      <a:lnTo>
                        <a:pt x="30" y="38"/>
                      </a:lnTo>
                      <a:lnTo>
                        <a:pt x="30" y="38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43320" y="5057640"/>
                  <a:ext cx="78120" cy="39600"/>
                </a:xfrm>
                <a:custGeom>
                  <a:avLst/>
                  <a:gdLst/>
                  <a:ahLst/>
                  <a:rect l="l" t="t" r="r" b="b"/>
                  <a:pathLst>
                    <a:path w="206" h="99">
                      <a:moveTo>
                        <a:pt x="84" y="8"/>
                      </a:moveTo>
                      <a:lnTo>
                        <a:pt x="38" y="3"/>
                      </a:lnTo>
                      <a:lnTo>
                        <a:pt x="19" y="0"/>
                      </a:lnTo>
                      <a:lnTo>
                        <a:pt x="24" y="8"/>
                      </a:lnTo>
                      <a:lnTo>
                        <a:pt x="0" y="40"/>
                      </a:lnTo>
                      <a:lnTo>
                        <a:pt x="0" y="53"/>
                      </a:lnTo>
                      <a:lnTo>
                        <a:pt x="8" y="62"/>
                      </a:lnTo>
                      <a:lnTo>
                        <a:pt x="14" y="74"/>
                      </a:lnTo>
                      <a:lnTo>
                        <a:pt x="33" y="73"/>
                      </a:lnTo>
                      <a:lnTo>
                        <a:pt x="33" y="65"/>
                      </a:lnTo>
                      <a:lnTo>
                        <a:pt x="43" y="63"/>
                      </a:lnTo>
                      <a:lnTo>
                        <a:pt x="58" y="34"/>
                      </a:lnTo>
                      <a:lnTo>
                        <a:pt x="69" y="43"/>
                      </a:lnTo>
                      <a:lnTo>
                        <a:pt x="58" y="50"/>
                      </a:lnTo>
                      <a:lnTo>
                        <a:pt x="58" y="68"/>
                      </a:lnTo>
                      <a:lnTo>
                        <a:pt x="67" y="62"/>
                      </a:lnTo>
                      <a:lnTo>
                        <a:pt x="58" y="76"/>
                      </a:lnTo>
                      <a:lnTo>
                        <a:pt x="58" y="84"/>
                      </a:lnTo>
                      <a:lnTo>
                        <a:pt x="89" y="92"/>
                      </a:lnTo>
                      <a:lnTo>
                        <a:pt x="129" y="98"/>
                      </a:lnTo>
                      <a:lnTo>
                        <a:pt x="148" y="84"/>
                      </a:lnTo>
                      <a:lnTo>
                        <a:pt x="166" y="98"/>
                      </a:lnTo>
                      <a:lnTo>
                        <a:pt x="202" y="99"/>
                      </a:lnTo>
                      <a:lnTo>
                        <a:pt x="203" y="88"/>
                      </a:lnTo>
                      <a:lnTo>
                        <a:pt x="184" y="71"/>
                      </a:lnTo>
                      <a:lnTo>
                        <a:pt x="192" y="51"/>
                      </a:lnTo>
                      <a:lnTo>
                        <a:pt x="204" y="38"/>
                      </a:lnTo>
                      <a:lnTo>
                        <a:pt x="206" y="20"/>
                      </a:lnTo>
                      <a:lnTo>
                        <a:pt x="171" y="19"/>
                      </a:lnTo>
                      <a:lnTo>
                        <a:pt x="166" y="40"/>
                      </a:lnTo>
                      <a:lnTo>
                        <a:pt x="150" y="43"/>
                      </a:lnTo>
                      <a:lnTo>
                        <a:pt x="144" y="57"/>
                      </a:lnTo>
                      <a:lnTo>
                        <a:pt x="126" y="30"/>
                      </a:lnTo>
                      <a:lnTo>
                        <a:pt x="116" y="40"/>
                      </a:lnTo>
                      <a:lnTo>
                        <a:pt x="108" y="32"/>
                      </a:lnTo>
                      <a:lnTo>
                        <a:pt x="112" y="20"/>
                      </a:lnTo>
                      <a:lnTo>
                        <a:pt x="89" y="19"/>
                      </a:lnTo>
                      <a:lnTo>
                        <a:pt x="84" y="8"/>
                      </a:lnTo>
                      <a:lnTo>
                        <a:pt x="84" y="8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523960" y="5064840"/>
                  <a:ext cx="22320" cy="25200"/>
                </a:xfrm>
                <a:custGeom>
                  <a:avLst/>
                  <a:gdLst/>
                  <a:ahLst/>
                  <a:rect l="l" t="t" r="r" b="b"/>
                  <a:pathLst>
                    <a:path w="60" h="65">
                      <a:moveTo>
                        <a:pt x="60" y="5"/>
                      </a:moveTo>
                      <a:lnTo>
                        <a:pt x="41" y="0"/>
                      </a:lnTo>
                      <a:lnTo>
                        <a:pt x="21" y="5"/>
                      </a:lnTo>
                      <a:lnTo>
                        <a:pt x="14" y="16"/>
                      </a:lnTo>
                      <a:lnTo>
                        <a:pt x="25" y="16"/>
                      </a:lnTo>
                      <a:lnTo>
                        <a:pt x="21" y="24"/>
                      </a:lnTo>
                      <a:lnTo>
                        <a:pt x="0" y="27"/>
                      </a:lnTo>
                      <a:lnTo>
                        <a:pt x="9" y="42"/>
                      </a:lnTo>
                      <a:lnTo>
                        <a:pt x="18" y="41"/>
                      </a:lnTo>
                      <a:lnTo>
                        <a:pt x="21" y="49"/>
                      </a:lnTo>
                      <a:lnTo>
                        <a:pt x="33" y="65"/>
                      </a:lnTo>
                      <a:lnTo>
                        <a:pt x="59" y="47"/>
                      </a:lnTo>
                      <a:lnTo>
                        <a:pt x="49" y="37"/>
                      </a:lnTo>
                      <a:lnTo>
                        <a:pt x="59" y="33"/>
                      </a:lnTo>
                      <a:lnTo>
                        <a:pt x="52" y="21"/>
                      </a:lnTo>
                      <a:lnTo>
                        <a:pt x="60" y="14"/>
                      </a:lnTo>
                      <a:lnTo>
                        <a:pt x="60" y="5"/>
                      </a:lnTo>
                      <a:lnTo>
                        <a:pt x="60" y="5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524680" y="5047200"/>
                  <a:ext cx="26280" cy="14400"/>
                </a:xfrm>
                <a:custGeom>
                  <a:avLst/>
                  <a:gdLst/>
                  <a:ahLst/>
                  <a:rect l="l" t="t" r="r" b="b"/>
                  <a:pathLst>
                    <a:path w="69" h="35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14" y="25"/>
                      </a:lnTo>
                      <a:lnTo>
                        <a:pt x="38" y="24"/>
                      </a:lnTo>
                      <a:lnTo>
                        <a:pt x="31" y="33"/>
                      </a:lnTo>
                      <a:lnTo>
                        <a:pt x="61" y="35"/>
                      </a:lnTo>
                      <a:lnTo>
                        <a:pt x="66" y="18"/>
                      </a:lnTo>
                      <a:lnTo>
                        <a:pt x="69" y="0"/>
                      </a:lnTo>
                      <a:lnTo>
                        <a:pt x="38" y="3"/>
                      </a:lnTo>
                      <a:lnTo>
                        <a:pt x="32" y="14"/>
                      </a:lnTo>
                      <a:lnTo>
                        <a:pt x="14" y="9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567880" y="5065560"/>
                  <a:ext cx="92880" cy="91440"/>
                </a:xfrm>
                <a:custGeom>
                  <a:avLst/>
                  <a:gdLst/>
                  <a:ahLst/>
                  <a:rect l="l" t="t" r="r" b="b"/>
                  <a:pathLst>
                    <a:path w="247" h="229">
                      <a:moveTo>
                        <a:pt x="45" y="0"/>
                      </a:moveTo>
                      <a:lnTo>
                        <a:pt x="24" y="11"/>
                      </a:lnTo>
                      <a:lnTo>
                        <a:pt x="0" y="43"/>
                      </a:lnTo>
                      <a:lnTo>
                        <a:pt x="7" y="68"/>
                      </a:lnTo>
                      <a:lnTo>
                        <a:pt x="48" y="79"/>
                      </a:lnTo>
                      <a:lnTo>
                        <a:pt x="95" y="79"/>
                      </a:lnTo>
                      <a:lnTo>
                        <a:pt x="107" y="99"/>
                      </a:lnTo>
                      <a:lnTo>
                        <a:pt x="129" y="100"/>
                      </a:lnTo>
                      <a:lnTo>
                        <a:pt x="146" y="120"/>
                      </a:lnTo>
                      <a:lnTo>
                        <a:pt x="135" y="142"/>
                      </a:lnTo>
                      <a:lnTo>
                        <a:pt x="115" y="163"/>
                      </a:lnTo>
                      <a:lnTo>
                        <a:pt x="94" y="162"/>
                      </a:lnTo>
                      <a:lnTo>
                        <a:pt x="77" y="172"/>
                      </a:lnTo>
                      <a:lnTo>
                        <a:pt x="129" y="183"/>
                      </a:lnTo>
                      <a:lnTo>
                        <a:pt x="156" y="216"/>
                      </a:lnTo>
                      <a:lnTo>
                        <a:pt x="189" y="229"/>
                      </a:lnTo>
                      <a:lnTo>
                        <a:pt x="189" y="220"/>
                      </a:lnTo>
                      <a:lnTo>
                        <a:pt x="172" y="198"/>
                      </a:lnTo>
                      <a:lnTo>
                        <a:pt x="201" y="215"/>
                      </a:lnTo>
                      <a:lnTo>
                        <a:pt x="212" y="208"/>
                      </a:lnTo>
                      <a:lnTo>
                        <a:pt x="190" y="173"/>
                      </a:lnTo>
                      <a:lnTo>
                        <a:pt x="188" y="153"/>
                      </a:lnTo>
                      <a:lnTo>
                        <a:pt x="202" y="153"/>
                      </a:lnTo>
                      <a:lnTo>
                        <a:pt x="212" y="173"/>
                      </a:lnTo>
                      <a:lnTo>
                        <a:pt x="232" y="178"/>
                      </a:lnTo>
                      <a:lnTo>
                        <a:pt x="247" y="157"/>
                      </a:lnTo>
                      <a:lnTo>
                        <a:pt x="247" y="135"/>
                      </a:lnTo>
                      <a:lnTo>
                        <a:pt x="220" y="119"/>
                      </a:lnTo>
                      <a:lnTo>
                        <a:pt x="208" y="119"/>
                      </a:lnTo>
                      <a:lnTo>
                        <a:pt x="201" y="108"/>
                      </a:lnTo>
                      <a:lnTo>
                        <a:pt x="183" y="100"/>
                      </a:lnTo>
                      <a:lnTo>
                        <a:pt x="209" y="97"/>
                      </a:lnTo>
                      <a:lnTo>
                        <a:pt x="205" y="86"/>
                      </a:lnTo>
                      <a:lnTo>
                        <a:pt x="188" y="69"/>
                      </a:lnTo>
                      <a:lnTo>
                        <a:pt x="188" y="54"/>
                      </a:lnTo>
                      <a:lnTo>
                        <a:pt x="156" y="50"/>
                      </a:lnTo>
                      <a:lnTo>
                        <a:pt x="152" y="40"/>
                      </a:lnTo>
                      <a:lnTo>
                        <a:pt x="134" y="31"/>
                      </a:lnTo>
                      <a:lnTo>
                        <a:pt x="120" y="8"/>
                      </a:lnTo>
                      <a:lnTo>
                        <a:pt x="83" y="7"/>
                      </a:lnTo>
                      <a:lnTo>
                        <a:pt x="56" y="13"/>
                      </a:lnTo>
                      <a:lnTo>
                        <a:pt x="41" y="44"/>
                      </a:lnTo>
                      <a:lnTo>
                        <a:pt x="48" y="8"/>
                      </a:lnTo>
                      <a:lnTo>
                        <a:pt x="45" y="0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561760" y="51228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69" h="78">
                      <a:moveTo>
                        <a:pt x="27" y="0"/>
                      </a:moveTo>
                      <a:lnTo>
                        <a:pt x="23" y="20"/>
                      </a:lnTo>
                      <a:lnTo>
                        <a:pt x="2" y="42"/>
                      </a:lnTo>
                      <a:lnTo>
                        <a:pt x="0" y="57"/>
                      </a:lnTo>
                      <a:lnTo>
                        <a:pt x="23" y="50"/>
                      </a:lnTo>
                      <a:lnTo>
                        <a:pt x="31" y="56"/>
                      </a:lnTo>
                      <a:lnTo>
                        <a:pt x="16" y="63"/>
                      </a:lnTo>
                      <a:lnTo>
                        <a:pt x="27" y="78"/>
                      </a:lnTo>
                      <a:lnTo>
                        <a:pt x="42" y="68"/>
                      </a:lnTo>
                      <a:lnTo>
                        <a:pt x="49" y="54"/>
                      </a:lnTo>
                      <a:lnTo>
                        <a:pt x="69" y="49"/>
                      </a:lnTo>
                      <a:lnTo>
                        <a:pt x="59" y="34"/>
                      </a:lnTo>
                      <a:lnTo>
                        <a:pt x="33" y="12"/>
                      </a:lnTo>
                      <a:lnTo>
                        <a:pt x="27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581920" y="514836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14" y="0"/>
                      </a:moveTo>
                      <a:lnTo>
                        <a:pt x="3" y="5"/>
                      </a:lnTo>
                      <a:lnTo>
                        <a:pt x="0" y="15"/>
                      </a:lnTo>
                      <a:lnTo>
                        <a:pt x="9" y="15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558520" y="4991760"/>
                  <a:ext cx="120600" cy="55440"/>
                </a:xfrm>
                <a:custGeom>
                  <a:avLst/>
                  <a:gdLst/>
                  <a:ahLst/>
                  <a:rect l="l" t="t" r="r" b="b"/>
                  <a:pathLst>
                    <a:path w="321" h="139">
                      <a:moveTo>
                        <a:pt x="321" y="21"/>
                      </a:moveTo>
                      <a:lnTo>
                        <a:pt x="284" y="13"/>
                      </a:lnTo>
                      <a:lnTo>
                        <a:pt x="249" y="10"/>
                      </a:lnTo>
                      <a:lnTo>
                        <a:pt x="224" y="0"/>
                      </a:lnTo>
                      <a:lnTo>
                        <a:pt x="156" y="3"/>
                      </a:lnTo>
                      <a:lnTo>
                        <a:pt x="133" y="13"/>
                      </a:lnTo>
                      <a:lnTo>
                        <a:pt x="92" y="13"/>
                      </a:lnTo>
                      <a:lnTo>
                        <a:pt x="84" y="24"/>
                      </a:lnTo>
                      <a:lnTo>
                        <a:pt x="51" y="25"/>
                      </a:lnTo>
                      <a:lnTo>
                        <a:pt x="89" y="46"/>
                      </a:lnTo>
                      <a:lnTo>
                        <a:pt x="79" y="56"/>
                      </a:lnTo>
                      <a:lnTo>
                        <a:pt x="57" y="45"/>
                      </a:lnTo>
                      <a:lnTo>
                        <a:pt x="43" y="39"/>
                      </a:lnTo>
                      <a:lnTo>
                        <a:pt x="40" y="31"/>
                      </a:lnTo>
                      <a:lnTo>
                        <a:pt x="20" y="33"/>
                      </a:lnTo>
                      <a:lnTo>
                        <a:pt x="2" y="41"/>
                      </a:lnTo>
                      <a:lnTo>
                        <a:pt x="0" y="73"/>
                      </a:lnTo>
                      <a:lnTo>
                        <a:pt x="15" y="77"/>
                      </a:lnTo>
                      <a:lnTo>
                        <a:pt x="37" y="77"/>
                      </a:lnTo>
                      <a:lnTo>
                        <a:pt x="22" y="92"/>
                      </a:lnTo>
                      <a:lnTo>
                        <a:pt x="42" y="111"/>
                      </a:lnTo>
                      <a:lnTo>
                        <a:pt x="49" y="99"/>
                      </a:lnTo>
                      <a:lnTo>
                        <a:pt x="84" y="77"/>
                      </a:lnTo>
                      <a:lnTo>
                        <a:pt x="95" y="81"/>
                      </a:lnTo>
                      <a:lnTo>
                        <a:pt x="64" y="99"/>
                      </a:lnTo>
                      <a:lnTo>
                        <a:pt x="83" y="107"/>
                      </a:lnTo>
                      <a:lnTo>
                        <a:pt x="65" y="112"/>
                      </a:lnTo>
                      <a:lnTo>
                        <a:pt x="51" y="130"/>
                      </a:lnTo>
                      <a:lnTo>
                        <a:pt x="80" y="137"/>
                      </a:lnTo>
                      <a:lnTo>
                        <a:pt x="153" y="139"/>
                      </a:lnTo>
                      <a:lnTo>
                        <a:pt x="137" y="126"/>
                      </a:lnTo>
                      <a:lnTo>
                        <a:pt x="158" y="114"/>
                      </a:lnTo>
                      <a:lnTo>
                        <a:pt x="168" y="93"/>
                      </a:lnTo>
                      <a:lnTo>
                        <a:pt x="190" y="90"/>
                      </a:lnTo>
                      <a:lnTo>
                        <a:pt x="187" y="77"/>
                      </a:lnTo>
                      <a:lnTo>
                        <a:pt x="218" y="76"/>
                      </a:lnTo>
                      <a:lnTo>
                        <a:pt x="236" y="55"/>
                      </a:lnTo>
                      <a:lnTo>
                        <a:pt x="273" y="47"/>
                      </a:lnTo>
                      <a:lnTo>
                        <a:pt x="299" y="28"/>
                      </a:lnTo>
                      <a:lnTo>
                        <a:pt x="321" y="21"/>
                      </a:lnTo>
                      <a:lnTo>
                        <a:pt x="321" y="2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554200" y="5044680"/>
                  <a:ext cx="57960" cy="19800"/>
                </a:xfrm>
                <a:custGeom>
                  <a:avLst/>
                  <a:gdLst/>
                  <a:ahLst/>
                  <a:rect l="l" t="t" r="r" b="b"/>
                  <a:pathLst>
                    <a:path w="155" h="51">
                      <a:moveTo>
                        <a:pt x="0" y="0"/>
                      </a:moveTo>
                      <a:lnTo>
                        <a:pt x="27" y="10"/>
                      </a:lnTo>
                      <a:lnTo>
                        <a:pt x="55" y="6"/>
                      </a:lnTo>
                      <a:lnTo>
                        <a:pt x="89" y="28"/>
                      </a:lnTo>
                      <a:lnTo>
                        <a:pt x="155" y="28"/>
                      </a:lnTo>
                      <a:lnTo>
                        <a:pt x="146" y="51"/>
                      </a:lnTo>
                      <a:lnTo>
                        <a:pt x="88" y="47"/>
                      </a:lnTo>
                      <a:lnTo>
                        <a:pt x="53" y="41"/>
                      </a:lnTo>
                      <a:lnTo>
                        <a:pt x="33" y="36"/>
                      </a:lnTo>
                      <a:lnTo>
                        <a:pt x="22" y="17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631960" y="4987800"/>
                  <a:ext cx="210240" cy="187560"/>
                </a:xfrm>
                <a:custGeom>
                  <a:avLst/>
                  <a:gdLst/>
                  <a:ahLst/>
                  <a:rect l="l" t="t" r="r" b="b"/>
                  <a:pathLst>
                    <a:path w="559" h="472">
                      <a:moveTo>
                        <a:pt x="472" y="35"/>
                      </a:moveTo>
                      <a:lnTo>
                        <a:pt x="457" y="24"/>
                      </a:lnTo>
                      <a:lnTo>
                        <a:pt x="422" y="21"/>
                      </a:lnTo>
                      <a:lnTo>
                        <a:pt x="404" y="14"/>
                      </a:lnTo>
                      <a:lnTo>
                        <a:pt x="375" y="21"/>
                      </a:lnTo>
                      <a:lnTo>
                        <a:pt x="409" y="5"/>
                      </a:lnTo>
                      <a:lnTo>
                        <a:pt x="361" y="0"/>
                      </a:lnTo>
                      <a:lnTo>
                        <a:pt x="326" y="8"/>
                      </a:lnTo>
                      <a:lnTo>
                        <a:pt x="273" y="13"/>
                      </a:lnTo>
                      <a:lnTo>
                        <a:pt x="247" y="24"/>
                      </a:lnTo>
                      <a:lnTo>
                        <a:pt x="216" y="26"/>
                      </a:lnTo>
                      <a:lnTo>
                        <a:pt x="206" y="42"/>
                      </a:lnTo>
                      <a:lnTo>
                        <a:pt x="181" y="32"/>
                      </a:lnTo>
                      <a:lnTo>
                        <a:pt x="135" y="42"/>
                      </a:lnTo>
                      <a:lnTo>
                        <a:pt x="108" y="46"/>
                      </a:lnTo>
                      <a:lnTo>
                        <a:pt x="87" y="67"/>
                      </a:lnTo>
                      <a:lnTo>
                        <a:pt x="61" y="78"/>
                      </a:lnTo>
                      <a:lnTo>
                        <a:pt x="75" y="88"/>
                      </a:lnTo>
                      <a:lnTo>
                        <a:pt x="55" y="99"/>
                      </a:lnTo>
                      <a:lnTo>
                        <a:pt x="24" y="104"/>
                      </a:lnTo>
                      <a:lnTo>
                        <a:pt x="0" y="125"/>
                      </a:lnTo>
                      <a:lnTo>
                        <a:pt x="24" y="135"/>
                      </a:lnTo>
                      <a:lnTo>
                        <a:pt x="7" y="146"/>
                      </a:lnTo>
                      <a:lnTo>
                        <a:pt x="17" y="156"/>
                      </a:lnTo>
                      <a:lnTo>
                        <a:pt x="50" y="156"/>
                      </a:lnTo>
                      <a:lnTo>
                        <a:pt x="43" y="168"/>
                      </a:lnTo>
                      <a:lnTo>
                        <a:pt x="126" y="172"/>
                      </a:lnTo>
                      <a:lnTo>
                        <a:pt x="143" y="186"/>
                      </a:lnTo>
                      <a:lnTo>
                        <a:pt x="138" y="229"/>
                      </a:lnTo>
                      <a:lnTo>
                        <a:pt x="154" y="244"/>
                      </a:lnTo>
                      <a:lnTo>
                        <a:pt x="138" y="259"/>
                      </a:lnTo>
                      <a:lnTo>
                        <a:pt x="166" y="265"/>
                      </a:lnTo>
                      <a:lnTo>
                        <a:pt x="141" y="266"/>
                      </a:lnTo>
                      <a:lnTo>
                        <a:pt x="143" y="291"/>
                      </a:lnTo>
                      <a:lnTo>
                        <a:pt x="177" y="297"/>
                      </a:lnTo>
                      <a:lnTo>
                        <a:pt x="166" y="306"/>
                      </a:lnTo>
                      <a:lnTo>
                        <a:pt x="146" y="306"/>
                      </a:lnTo>
                      <a:lnTo>
                        <a:pt x="138" y="327"/>
                      </a:lnTo>
                      <a:lnTo>
                        <a:pt x="149" y="364"/>
                      </a:lnTo>
                      <a:lnTo>
                        <a:pt x="177" y="410"/>
                      </a:lnTo>
                      <a:lnTo>
                        <a:pt x="177" y="425"/>
                      </a:lnTo>
                      <a:lnTo>
                        <a:pt x="198" y="457"/>
                      </a:lnTo>
                      <a:lnTo>
                        <a:pt x="232" y="472"/>
                      </a:lnTo>
                      <a:lnTo>
                        <a:pt x="239" y="456"/>
                      </a:lnTo>
                      <a:lnTo>
                        <a:pt x="269" y="419"/>
                      </a:lnTo>
                      <a:lnTo>
                        <a:pt x="271" y="370"/>
                      </a:lnTo>
                      <a:lnTo>
                        <a:pt x="292" y="374"/>
                      </a:lnTo>
                      <a:lnTo>
                        <a:pt x="299" y="359"/>
                      </a:lnTo>
                      <a:lnTo>
                        <a:pt x="319" y="358"/>
                      </a:lnTo>
                      <a:lnTo>
                        <a:pt x="336" y="344"/>
                      </a:lnTo>
                      <a:lnTo>
                        <a:pt x="365" y="316"/>
                      </a:lnTo>
                      <a:lnTo>
                        <a:pt x="400" y="315"/>
                      </a:lnTo>
                      <a:lnTo>
                        <a:pt x="411" y="302"/>
                      </a:lnTo>
                      <a:lnTo>
                        <a:pt x="460" y="293"/>
                      </a:lnTo>
                      <a:lnTo>
                        <a:pt x="463" y="282"/>
                      </a:lnTo>
                      <a:lnTo>
                        <a:pt x="423" y="278"/>
                      </a:lnTo>
                      <a:lnTo>
                        <a:pt x="421" y="259"/>
                      </a:lnTo>
                      <a:lnTo>
                        <a:pt x="435" y="271"/>
                      </a:lnTo>
                      <a:lnTo>
                        <a:pt x="465" y="269"/>
                      </a:lnTo>
                      <a:lnTo>
                        <a:pt x="436" y="250"/>
                      </a:lnTo>
                      <a:lnTo>
                        <a:pt x="440" y="236"/>
                      </a:lnTo>
                      <a:lnTo>
                        <a:pt x="458" y="246"/>
                      </a:lnTo>
                      <a:lnTo>
                        <a:pt x="467" y="227"/>
                      </a:lnTo>
                      <a:lnTo>
                        <a:pt x="457" y="211"/>
                      </a:lnTo>
                      <a:lnTo>
                        <a:pt x="484" y="201"/>
                      </a:lnTo>
                      <a:lnTo>
                        <a:pt x="467" y="178"/>
                      </a:lnTo>
                      <a:lnTo>
                        <a:pt x="481" y="178"/>
                      </a:lnTo>
                      <a:lnTo>
                        <a:pt x="470" y="156"/>
                      </a:lnTo>
                      <a:lnTo>
                        <a:pt x="482" y="156"/>
                      </a:lnTo>
                      <a:lnTo>
                        <a:pt x="494" y="161"/>
                      </a:lnTo>
                      <a:lnTo>
                        <a:pt x="498" y="146"/>
                      </a:lnTo>
                      <a:lnTo>
                        <a:pt x="481" y="128"/>
                      </a:lnTo>
                      <a:lnTo>
                        <a:pt x="485" y="88"/>
                      </a:lnTo>
                      <a:lnTo>
                        <a:pt x="513" y="85"/>
                      </a:lnTo>
                      <a:lnTo>
                        <a:pt x="518" y="70"/>
                      </a:lnTo>
                      <a:lnTo>
                        <a:pt x="559" y="56"/>
                      </a:lnTo>
                      <a:lnTo>
                        <a:pt x="547" y="46"/>
                      </a:lnTo>
                      <a:lnTo>
                        <a:pt x="525" y="45"/>
                      </a:lnTo>
                      <a:lnTo>
                        <a:pt x="502" y="58"/>
                      </a:lnTo>
                      <a:lnTo>
                        <a:pt x="472" y="56"/>
                      </a:lnTo>
                      <a:lnTo>
                        <a:pt x="452" y="69"/>
                      </a:lnTo>
                      <a:lnTo>
                        <a:pt x="458" y="46"/>
                      </a:lnTo>
                      <a:lnTo>
                        <a:pt x="430" y="42"/>
                      </a:lnTo>
                      <a:lnTo>
                        <a:pt x="455" y="37"/>
                      </a:lnTo>
                      <a:lnTo>
                        <a:pt x="472" y="35"/>
                      </a:lnTo>
                      <a:lnTo>
                        <a:pt x="472" y="35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789640" y="5122800"/>
                  <a:ext cx="39960" cy="26280"/>
                </a:xfrm>
                <a:custGeom>
                  <a:avLst/>
                  <a:gdLst/>
                  <a:ahLst/>
                  <a:rect l="l" t="t" r="r" b="b"/>
                  <a:pathLst>
                    <a:path w="107" h="66">
                      <a:moveTo>
                        <a:pt x="76" y="0"/>
                      </a:moveTo>
                      <a:lnTo>
                        <a:pt x="53" y="16"/>
                      </a:lnTo>
                      <a:lnTo>
                        <a:pt x="34" y="16"/>
                      </a:lnTo>
                      <a:lnTo>
                        <a:pt x="25" y="5"/>
                      </a:lnTo>
                      <a:lnTo>
                        <a:pt x="0" y="24"/>
                      </a:lnTo>
                      <a:lnTo>
                        <a:pt x="12" y="47"/>
                      </a:lnTo>
                      <a:lnTo>
                        <a:pt x="11" y="62"/>
                      </a:lnTo>
                      <a:lnTo>
                        <a:pt x="63" y="66"/>
                      </a:lnTo>
                      <a:lnTo>
                        <a:pt x="80" y="53"/>
                      </a:lnTo>
                      <a:lnTo>
                        <a:pt x="104" y="48"/>
                      </a:lnTo>
                      <a:lnTo>
                        <a:pt x="107" y="5"/>
                      </a:lnTo>
                      <a:lnTo>
                        <a:pt x="86" y="9"/>
                      </a:lnTo>
                      <a:lnTo>
                        <a:pt x="76" y="0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242800" y="5059440"/>
                  <a:ext cx="434520" cy="384840"/>
                </a:xfrm>
                <a:custGeom>
                  <a:avLst/>
                  <a:gdLst/>
                  <a:ahLst/>
                  <a:rect l="l" t="t" r="r" b="b"/>
                  <a:pathLst>
                    <a:path w="1153" h="970">
                      <a:moveTo>
                        <a:pt x="860" y="17"/>
                      </a:moveTo>
                      <a:lnTo>
                        <a:pt x="833" y="0"/>
                      </a:lnTo>
                      <a:lnTo>
                        <a:pt x="815" y="24"/>
                      </a:lnTo>
                      <a:lnTo>
                        <a:pt x="812" y="63"/>
                      </a:lnTo>
                      <a:lnTo>
                        <a:pt x="794" y="86"/>
                      </a:lnTo>
                      <a:lnTo>
                        <a:pt x="802" y="102"/>
                      </a:lnTo>
                      <a:lnTo>
                        <a:pt x="773" y="112"/>
                      </a:lnTo>
                      <a:lnTo>
                        <a:pt x="767" y="86"/>
                      </a:lnTo>
                      <a:lnTo>
                        <a:pt x="741" y="102"/>
                      </a:lnTo>
                      <a:lnTo>
                        <a:pt x="738" y="121"/>
                      </a:lnTo>
                      <a:lnTo>
                        <a:pt x="683" y="98"/>
                      </a:lnTo>
                      <a:lnTo>
                        <a:pt x="657" y="105"/>
                      </a:lnTo>
                      <a:lnTo>
                        <a:pt x="645" y="124"/>
                      </a:lnTo>
                      <a:lnTo>
                        <a:pt x="586" y="114"/>
                      </a:lnTo>
                      <a:lnTo>
                        <a:pt x="586" y="92"/>
                      </a:lnTo>
                      <a:lnTo>
                        <a:pt x="552" y="96"/>
                      </a:lnTo>
                      <a:lnTo>
                        <a:pt x="528" y="69"/>
                      </a:lnTo>
                      <a:lnTo>
                        <a:pt x="510" y="72"/>
                      </a:lnTo>
                      <a:lnTo>
                        <a:pt x="510" y="90"/>
                      </a:lnTo>
                      <a:lnTo>
                        <a:pt x="487" y="72"/>
                      </a:lnTo>
                      <a:lnTo>
                        <a:pt x="447" y="86"/>
                      </a:lnTo>
                      <a:lnTo>
                        <a:pt x="424" y="96"/>
                      </a:lnTo>
                      <a:lnTo>
                        <a:pt x="407" y="86"/>
                      </a:lnTo>
                      <a:lnTo>
                        <a:pt x="393" y="96"/>
                      </a:lnTo>
                      <a:lnTo>
                        <a:pt x="365" y="79"/>
                      </a:lnTo>
                      <a:lnTo>
                        <a:pt x="316" y="72"/>
                      </a:lnTo>
                      <a:lnTo>
                        <a:pt x="304" y="82"/>
                      </a:lnTo>
                      <a:lnTo>
                        <a:pt x="294" y="72"/>
                      </a:lnTo>
                      <a:lnTo>
                        <a:pt x="266" y="69"/>
                      </a:lnTo>
                      <a:lnTo>
                        <a:pt x="253" y="54"/>
                      </a:lnTo>
                      <a:lnTo>
                        <a:pt x="233" y="56"/>
                      </a:lnTo>
                      <a:lnTo>
                        <a:pt x="227" y="39"/>
                      </a:lnTo>
                      <a:lnTo>
                        <a:pt x="203" y="49"/>
                      </a:lnTo>
                      <a:lnTo>
                        <a:pt x="139" y="66"/>
                      </a:lnTo>
                      <a:lnTo>
                        <a:pt x="113" y="96"/>
                      </a:lnTo>
                      <a:lnTo>
                        <a:pt x="139" y="128"/>
                      </a:lnTo>
                      <a:lnTo>
                        <a:pt x="136" y="135"/>
                      </a:lnTo>
                      <a:lnTo>
                        <a:pt x="108" y="124"/>
                      </a:lnTo>
                      <a:lnTo>
                        <a:pt x="87" y="135"/>
                      </a:lnTo>
                      <a:lnTo>
                        <a:pt x="101" y="170"/>
                      </a:lnTo>
                      <a:lnTo>
                        <a:pt x="119" y="160"/>
                      </a:lnTo>
                      <a:lnTo>
                        <a:pt x="136" y="170"/>
                      </a:lnTo>
                      <a:lnTo>
                        <a:pt x="119" y="184"/>
                      </a:lnTo>
                      <a:lnTo>
                        <a:pt x="113" y="196"/>
                      </a:lnTo>
                      <a:lnTo>
                        <a:pt x="90" y="194"/>
                      </a:lnTo>
                      <a:lnTo>
                        <a:pt x="68" y="213"/>
                      </a:lnTo>
                      <a:lnTo>
                        <a:pt x="68" y="241"/>
                      </a:lnTo>
                      <a:lnTo>
                        <a:pt x="87" y="251"/>
                      </a:lnTo>
                      <a:lnTo>
                        <a:pt x="107" y="245"/>
                      </a:lnTo>
                      <a:lnTo>
                        <a:pt x="99" y="265"/>
                      </a:lnTo>
                      <a:lnTo>
                        <a:pt x="124" y="268"/>
                      </a:lnTo>
                      <a:lnTo>
                        <a:pt x="126" y="281"/>
                      </a:lnTo>
                      <a:lnTo>
                        <a:pt x="76" y="311"/>
                      </a:lnTo>
                      <a:lnTo>
                        <a:pt x="0" y="333"/>
                      </a:lnTo>
                      <a:lnTo>
                        <a:pt x="0" y="339"/>
                      </a:lnTo>
                      <a:lnTo>
                        <a:pt x="81" y="317"/>
                      </a:lnTo>
                      <a:lnTo>
                        <a:pt x="169" y="258"/>
                      </a:lnTo>
                      <a:lnTo>
                        <a:pt x="157" y="245"/>
                      </a:lnTo>
                      <a:lnTo>
                        <a:pt x="148" y="239"/>
                      </a:lnTo>
                      <a:lnTo>
                        <a:pt x="169" y="239"/>
                      </a:lnTo>
                      <a:lnTo>
                        <a:pt x="200" y="209"/>
                      </a:lnTo>
                      <a:lnTo>
                        <a:pt x="200" y="219"/>
                      </a:lnTo>
                      <a:lnTo>
                        <a:pt x="185" y="239"/>
                      </a:lnTo>
                      <a:lnTo>
                        <a:pt x="216" y="235"/>
                      </a:lnTo>
                      <a:lnTo>
                        <a:pt x="233" y="239"/>
                      </a:lnTo>
                      <a:lnTo>
                        <a:pt x="233" y="226"/>
                      </a:lnTo>
                      <a:lnTo>
                        <a:pt x="246" y="228"/>
                      </a:lnTo>
                      <a:lnTo>
                        <a:pt x="273" y="239"/>
                      </a:lnTo>
                      <a:lnTo>
                        <a:pt x="294" y="226"/>
                      </a:lnTo>
                      <a:lnTo>
                        <a:pt x="296" y="213"/>
                      </a:lnTo>
                      <a:lnTo>
                        <a:pt x="322" y="226"/>
                      </a:lnTo>
                      <a:lnTo>
                        <a:pt x="304" y="239"/>
                      </a:lnTo>
                      <a:lnTo>
                        <a:pt x="314" y="260"/>
                      </a:lnTo>
                      <a:lnTo>
                        <a:pt x="328" y="268"/>
                      </a:lnTo>
                      <a:lnTo>
                        <a:pt x="338" y="324"/>
                      </a:lnTo>
                      <a:lnTo>
                        <a:pt x="352" y="337"/>
                      </a:lnTo>
                      <a:lnTo>
                        <a:pt x="365" y="330"/>
                      </a:lnTo>
                      <a:lnTo>
                        <a:pt x="381" y="346"/>
                      </a:lnTo>
                      <a:lnTo>
                        <a:pt x="381" y="369"/>
                      </a:lnTo>
                      <a:lnTo>
                        <a:pt x="389" y="381"/>
                      </a:lnTo>
                      <a:lnTo>
                        <a:pt x="372" y="388"/>
                      </a:lnTo>
                      <a:lnTo>
                        <a:pt x="390" y="418"/>
                      </a:lnTo>
                      <a:lnTo>
                        <a:pt x="399" y="428"/>
                      </a:lnTo>
                      <a:lnTo>
                        <a:pt x="378" y="508"/>
                      </a:lnTo>
                      <a:lnTo>
                        <a:pt x="415" y="632"/>
                      </a:lnTo>
                      <a:lnTo>
                        <a:pt x="424" y="659"/>
                      </a:lnTo>
                      <a:lnTo>
                        <a:pt x="447" y="665"/>
                      </a:lnTo>
                      <a:lnTo>
                        <a:pt x="454" y="705"/>
                      </a:lnTo>
                      <a:lnTo>
                        <a:pt x="464" y="724"/>
                      </a:lnTo>
                      <a:lnTo>
                        <a:pt x="454" y="737"/>
                      </a:lnTo>
                      <a:lnTo>
                        <a:pt x="462" y="753"/>
                      </a:lnTo>
                      <a:lnTo>
                        <a:pt x="482" y="776"/>
                      </a:lnTo>
                      <a:lnTo>
                        <a:pt x="494" y="797"/>
                      </a:lnTo>
                      <a:lnTo>
                        <a:pt x="515" y="809"/>
                      </a:lnTo>
                      <a:lnTo>
                        <a:pt x="519" y="805"/>
                      </a:lnTo>
                      <a:lnTo>
                        <a:pt x="510" y="784"/>
                      </a:lnTo>
                      <a:lnTo>
                        <a:pt x="491" y="747"/>
                      </a:lnTo>
                      <a:lnTo>
                        <a:pt x="482" y="720"/>
                      </a:lnTo>
                      <a:lnTo>
                        <a:pt x="480" y="698"/>
                      </a:lnTo>
                      <a:lnTo>
                        <a:pt x="491" y="698"/>
                      </a:lnTo>
                      <a:lnTo>
                        <a:pt x="494" y="730"/>
                      </a:lnTo>
                      <a:lnTo>
                        <a:pt x="512" y="757"/>
                      </a:lnTo>
                      <a:lnTo>
                        <a:pt x="555" y="805"/>
                      </a:lnTo>
                      <a:lnTo>
                        <a:pt x="566" y="809"/>
                      </a:lnTo>
                      <a:lnTo>
                        <a:pt x="585" y="830"/>
                      </a:lnTo>
                      <a:lnTo>
                        <a:pt x="610" y="846"/>
                      </a:lnTo>
                      <a:lnTo>
                        <a:pt x="639" y="871"/>
                      </a:lnTo>
                      <a:lnTo>
                        <a:pt x="668" y="882"/>
                      </a:lnTo>
                      <a:lnTo>
                        <a:pt x="696" y="894"/>
                      </a:lnTo>
                      <a:lnTo>
                        <a:pt x="744" y="948"/>
                      </a:lnTo>
                      <a:lnTo>
                        <a:pt x="757" y="959"/>
                      </a:lnTo>
                      <a:lnTo>
                        <a:pt x="778" y="970"/>
                      </a:lnTo>
                      <a:lnTo>
                        <a:pt x="824" y="956"/>
                      </a:lnTo>
                      <a:lnTo>
                        <a:pt x="835" y="927"/>
                      </a:lnTo>
                      <a:lnTo>
                        <a:pt x="810" y="939"/>
                      </a:lnTo>
                      <a:lnTo>
                        <a:pt x="776" y="937"/>
                      </a:lnTo>
                      <a:lnTo>
                        <a:pt x="770" y="920"/>
                      </a:lnTo>
                      <a:lnTo>
                        <a:pt x="776" y="899"/>
                      </a:lnTo>
                      <a:lnTo>
                        <a:pt x="776" y="874"/>
                      </a:lnTo>
                      <a:lnTo>
                        <a:pt x="754" y="858"/>
                      </a:lnTo>
                      <a:lnTo>
                        <a:pt x="736" y="854"/>
                      </a:lnTo>
                      <a:lnTo>
                        <a:pt x="732" y="861"/>
                      </a:lnTo>
                      <a:lnTo>
                        <a:pt x="708" y="854"/>
                      </a:lnTo>
                      <a:lnTo>
                        <a:pt x="715" y="841"/>
                      </a:lnTo>
                      <a:lnTo>
                        <a:pt x="741" y="835"/>
                      </a:lnTo>
                      <a:lnTo>
                        <a:pt x="732" y="812"/>
                      </a:lnTo>
                      <a:lnTo>
                        <a:pt x="738" y="805"/>
                      </a:lnTo>
                      <a:lnTo>
                        <a:pt x="733" y="776"/>
                      </a:lnTo>
                      <a:lnTo>
                        <a:pt x="724" y="780"/>
                      </a:lnTo>
                      <a:lnTo>
                        <a:pt x="704" y="784"/>
                      </a:lnTo>
                      <a:lnTo>
                        <a:pt x="688" y="802"/>
                      </a:lnTo>
                      <a:lnTo>
                        <a:pt x="657" y="805"/>
                      </a:lnTo>
                      <a:lnTo>
                        <a:pt x="625" y="790"/>
                      </a:lnTo>
                      <a:lnTo>
                        <a:pt x="622" y="750"/>
                      </a:lnTo>
                      <a:lnTo>
                        <a:pt x="641" y="730"/>
                      </a:lnTo>
                      <a:lnTo>
                        <a:pt x="641" y="711"/>
                      </a:lnTo>
                      <a:lnTo>
                        <a:pt x="631" y="698"/>
                      </a:lnTo>
                      <a:lnTo>
                        <a:pt x="649" y="701"/>
                      </a:lnTo>
                      <a:lnTo>
                        <a:pt x="675" y="688"/>
                      </a:lnTo>
                      <a:lnTo>
                        <a:pt x="677" y="679"/>
                      </a:lnTo>
                      <a:lnTo>
                        <a:pt x="690" y="681"/>
                      </a:lnTo>
                      <a:lnTo>
                        <a:pt x="693" y="692"/>
                      </a:lnTo>
                      <a:lnTo>
                        <a:pt x="714" y="692"/>
                      </a:lnTo>
                      <a:lnTo>
                        <a:pt x="732" y="701"/>
                      </a:lnTo>
                      <a:lnTo>
                        <a:pt x="732" y="686"/>
                      </a:lnTo>
                      <a:lnTo>
                        <a:pt x="744" y="686"/>
                      </a:lnTo>
                      <a:lnTo>
                        <a:pt x="756" y="698"/>
                      </a:lnTo>
                      <a:lnTo>
                        <a:pt x="787" y="698"/>
                      </a:lnTo>
                      <a:lnTo>
                        <a:pt x="787" y="730"/>
                      </a:lnTo>
                      <a:lnTo>
                        <a:pt x="802" y="753"/>
                      </a:lnTo>
                      <a:lnTo>
                        <a:pt x="817" y="757"/>
                      </a:lnTo>
                      <a:lnTo>
                        <a:pt x="819" y="743"/>
                      </a:lnTo>
                      <a:lnTo>
                        <a:pt x="819" y="698"/>
                      </a:lnTo>
                      <a:lnTo>
                        <a:pt x="812" y="686"/>
                      </a:lnTo>
                      <a:lnTo>
                        <a:pt x="852" y="630"/>
                      </a:lnTo>
                      <a:lnTo>
                        <a:pt x="871" y="627"/>
                      </a:lnTo>
                      <a:lnTo>
                        <a:pt x="878" y="607"/>
                      </a:lnTo>
                      <a:lnTo>
                        <a:pt x="890" y="603"/>
                      </a:lnTo>
                      <a:lnTo>
                        <a:pt x="878" y="590"/>
                      </a:lnTo>
                      <a:lnTo>
                        <a:pt x="880" y="578"/>
                      </a:lnTo>
                      <a:lnTo>
                        <a:pt x="901" y="567"/>
                      </a:lnTo>
                      <a:lnTo>
                        <a:pt x="916" y="546"/>
                      </a:lnTo>
                      <a:lnTo>
                        <a:pt x="944" y="541"/>
                      </a:lnTo>
                      <a:lnTo>
                        <a:pt x="951" y="518"/>
                      </a:lnTo>
                      <a:lnTo>
                        <a:pt x="944" y="514"/>
                      </a:lnTo>
                      <a:lnTo>
                        <a:pt x="955" y="499"/>
                      </a:lnTo>
                      <a:lnTo>
                        <a:pt x="986" y="492"/>
                      </a:lnTo>
                      <a:lnTo>
                        <a:pt x="1016" y="484"/>
                      </a:lnTo>
                      <a:lnTo>
                        <a:pt x="1020" y="502"/>
                      </a:lnTo>
                      <a:lnTo>
                        <a:pt x="1012" y="518"/>
                      </a:lnTo>
                      <a:lnTo>
                        <a:pt x="1005" y="534"/>
                      </a:lnTo>
                      <a:lnTo>
                        <a:pt x="1031" y="539"/>
                      </a:lnTo>
                      <a:lnTo>
                        <a:pt x="1038" y="526"/>
                      </a:lnTo>
                      <a:lnTo>
                        <a:pt x="1049" y="516"/>
                      </a:lnTo>
                      <a:lnTo>
                        <a:pt x="1074" y="507"/>
                      </a:lnTo>
                      <a:lnTo>
                        <a:pt x="1074" y="484"/>
                      </a:lnTo>
                      <a:lnTo>
                        <a:pt x="1059" y="477"/>
                      </a:lnTo>
                      <a:lnTo>
                        <a:pt x="1059" y="486"/>
                      </a:lnTo>
                      <a:lnTo>
                        <a:pt x="1047" y="492"/>
                      </a:lnTo>
                      <a:lnTo>
                        <a:pt x="1029" y="486"/>
                      </a:lnTo>
                      <a:lnTo>
                        <a:pt x="1038" y="464"/>
                      </a:lnTo>
                      <a:lnTo>
                        <a:pt x="1032" y="453"/>
                      </a:lnTo>
                      <a:lnTo>
                        <a:pt x="1016" y="453"/>
                      </a:lnTo>
                      <a:lnTo>
                        <a:pt x="976" y="466"/>
                      </a:lnTo>
                      <a:lnTo>
                        <a:pt x="1016" y="444"/>
                      </a:lnTo>
                      <a:lnTo>
                        <a:pt x="1076" y="448"/>
                      </a:lnTo>
                      <a:lnTo>
                        <a:pt x="1102" y="437"/>
                      </a:lnTo>
                      <a:lnTo>
                        <a:pt x="1108" y="453"/>
                      </a:lnTo>
                      <a:lnTo>
                        <a:pt x="1081" y="466"/>
                      </a:lnTo>
                      <a:lnTo>
                        <a:pt x="1086" y="473"/>
                      </a:lnTo>
                      <a:lnTo>
                        <a:pt x="1108" y="486"/>
                      </a:lnTo>
                      <a:lnTo>
                        <a:pt x="1114" y="477"/>
                      </a:lnTo>
                      <a:lnTo>
                        <a:pt x="1122" y="497"/>
                      </a:lnTo>
                      <a:lnTo>
                        <a:pt x="1134" y="486"/>
                      </a:lnTo>
                      <a:lnTo>
                        <a:pt x="1153" y="486"/>
                      </a:lnTo>
                      <a:lnTo>
                        <a:pt x="1149" y="453"/>
                      </a:lnTo>
                      <a:lnTo>
                        <a:pt x="1131" y="448"/>
                      </a:lnTo>
                      <a:lnTo>
                        <a:pt x="1122" y="431"/>
                      </a:lnTo>
                      <a:lnTo>
                        <a:pt x="1134" y="425"/>
                      </a:lnTo>
                      <a:lnTo>
                        <a:pt x="1134" y="381"/>
                      </a:lnTo>
                      <a:lnTo>
                        <a:pt x="1108" y="362"/>
                      </a:lnTo>
                      <a:lnTo>
                        <a:pt x="1084" y="356"/>
                      </a:lnTo>
                      <a:lnTo>
                        <a:pt x="1081" y="321"/>
                      </a:lnTo>
                      <a:lnTo>
                        <a:pt x="1066" y="290"/>
                      </a:lnTo>
                      <a:lnTo>
                        <a:pt x="1059" y="260"/>
                      </a:lnTo>
                      <a:lnTo>
                        <a:pt x="1049" y="265"/>
                      </a:lnTo>
                      <a:lnTo>
                        <a:pt x="1036" y="256"/>
                      </a:lnTo>
                      <a:lnTo>
                        <a:pt x="1031" y="283"/>
                      </a:lnTo>
                      <a:lnTo>
                        <a:pt x="1016" y="294"/>
                      </a:lnTo>
                      <a:lnTo>
                        <a:pt x="1002" y="271"/>
                      </a:lnTo>
                      <a:lnTo>
                        <a:pt x="1016" y="258"/>
                      </a:lnTo>
                      <a:lnTo>
                        <a:pt x="1002" y="241"/>
                      </a:lnTo>
                      <a:lnTo>
                        <a:pt x="982" y="239"/>
                      </a:lnTo>
                      <a:lnTo>
                        <a:pt x="972" y="223"/>
                      </a:lnTo>
                      <a:lnTo>
                        <a:pt x="921" y="223"/>
                      </a:lnTo>
                      <a:lnTo>
                        <a:pt x="927" y="245"/>
                      </a:lnTo>
                      <a:lnTo>
                        <a:pt x="913" y="256"/>
                      </a:lnTo>
                      <a:lnTo>
                        <a:pt x="921" y="268"/>
                      </a:lnTo>
                      <a:lnTo>
                        <a:pt x="909" y="288"/>
                      </a:lnTo>
                      <a:lnTo>
                        <a:pt x="921" y="303"/>
                      </a:lnTo>
                      <a:lnTo>
                        <a:pt x="912" y="330"/>
                      </a:lnTo>
                      <a:lnTo>
                        <a:pt x="886" y="346"/>
                      </a:lnTo>
                      <a:lnTo>
                        <a:pt x="889" y="360"/>
                      </a:lnTo>
                      <a:lnTo>
                        <a:pt x="889" y="392"/>
                      </a:lnTo>
                      <a:lnTo>
                        <a:pt x="871" y="392"/>
                      </a:lnTo>
                      <a:lnTo>
                        <a:pt x="878" y="372"/>
                      </a:lnTo>
                      <a:lnTo>
                        <a:pt x="868" y="360"/>
                      </a:lnTo>
                      <a:lnTo>
                        <a:pt x="868" y="339"/>
                      </a:lnTo>
                      <a:lnTo>
                        <a:pt x="852" y="337"/>
                      </a:lnTo>
                      <a:lnTo>
                        <a:pt x="825" y="324"/>
                      </a:lnTo>
                      <a:lnTo>
                        <a:pt x="802" y="307"/>
                      </a:lnTo>
                      <a:lnTo>
                        <a:pt x="787" y="311"/>
                      </a:lnTo>
                      <a:lnTo>
                        <a:pt x="776" y="277"/>
                      </a:lnTo>
                      <a:lnTo>
                        <a:pt x="759" y="268"/>
                      </a:lnTo>
                      <a:lnTo>
                        <a:pt x="769" y="235"/>
                      </a:lnTo>
                      <a:lnTo>
                        <a:pt x="787" y="226"/>
                      </a:lnTo>
                      <a:lnTo>
                        <a:pt x="805" y="223"/>
                      </a:lnTo>
                      <a:lnTo>
                        <a:pt x="808" y="200"/>
                      </a:lnTo>
                      <a:lnTo>
                        <a:pt x="837" y="194"/>
                      </a:lnTo>
                      <a:lnTo>
                        <a:pt x="858" y="167"/>
                      </a:lnTo>
                      <a:lnTo>
                        <a:pt x="868" y="145"/>
                      </a:lnTo>
                      <a:lnTo>
                        <a:pt x="894" y="140"/>
                      </a:lnTo>
                      <a:lnTo>
                        <a:pt x="913" y="128"/>
                      </a:lnTo>
                      <a:lnTo>
                        <a:pt x="896" y="121"/>
                      </a:lnTo>
                      <a:lnTo>
                        <a:pt x="890" y="98"/>
                      </a:lnTo>
                      <a:lnTo>
                        <a:pt x="876" y="98"/>
                      </a:lnTo>
                      <a:lnTo>
                        <a:pt x="863" y="121"/>
                      </a:lnTo>
                      <a:lnTo>
                        <a:pt x="852" y="102"/>
                      </a:lnTo>
                      <a:lnTo>
                        <a:pt x="828" y="92"/>
                      </a:lnTo>
                      <a:lnTo>
                        <a:pt x="833" y="74"/>
                      </a:lnTo>
                      <a:lnTo>
                        <a:pt x="819" y="63"/>
                      </a:lnTo>
                      <a:lnTo>
                        <a:pt x="835" y="24"/>
                      </a:lnTo>
                      <a:lnTo>
                        <a:pt x="860" y="17"/>
                      </a:lnTo>
                      <a:lnTo>
                        <a:pt x="860" y="17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531520" y="5419800"/>
                  <a:ext cx="193680" cy="362880"/>
                </a:xfrm>
                <a:custGeom>
                  <a:avLst/>
                  <a:gdLst/>
                  <a:ahLst/>
                  <a:rect l="l" t="t" r="r" b="b"/>
                  <a:pathLst>
                    <a:path w="514" h="910">
                      <a:moveTo>
                        <a:pt x="71" y="14"/>
                      </a:moveTo>
                      <a:lnTo>
                        <a:pt x="53" y="48"/>
                      </a:lnTo>
                      <a:lnTo>
                        <a:pt x="51" y="88"/>
                      </a:lnTo>
                      <a:lnTo>
                        <a:pt x="59" y="122"/>
                      </a:lnTo>
                      <a:lnTo>
                        <a:pt x="18" y="154"/>
                      </a:lnTo>
                      <a:lnTo>
                        <a:pt x="22" y="195"/>
                      </a:lnTo>
                      <a:lnTo>
                        <a:pt x="0" y="210"/>
                      </a:lnTo>
                      <a:lnTo>
                        <a:pt x="7" y="228"/>
                      </a:lnTo>
                      <a:lnTo>
                        <a:pt x="46" y="272"/>
                      </a:lnTo>
                      <a:lnTo>
                        <a:pt x="49" y="298"/>
                      </a:lnTo>
                      <a:lnTo>
                        <a:pt x="89" y="353"/>
                      </a:lnTo>
                      <a:lnTo>
                        <a:pt x="117" y="361"/>
                      </a:lnTo>
                      <a:lnTo>
                        <a:pt x="123" y="394"/>
                      </a:lnTo>
                      <a:lnTo>
                        <a:pt x="131" y="412"/>
                      </a:lnTo>
                      <a:lnTo>
                        <a:pt x="128" y="490"/>
                      </a:lnTo>
                      <a:lnTo>
                        <a:pt x="117" y="519"/>
                      </a:lnTo>
                      <a:lnTo>
                        <a:pt x="120" y="601"/>
                      </a:lnTo>
                      <a:lnTo>
                        <a:pt x="110" y="684"/>
                      </a:lnTo>
                      <a:lnTo>
                        <a:pt x="125" y="696"/>
                      </a:lnTo>
                      <a:lnTo>
                        <a:pt x="117" y="746"/>
                      </a:lnTo>
                      <a:lnTo>
                        <a:pt x="102" y="758"/>
                      </a:lnTo>
                      <a:lnTo>
                        <a:pt x="114" y="813"/>
                      </a:lnTo>
                      <a:lnTo>
                        <a:pt x="137" y="843"/>
                      </a:lnTo>
                      <a:lnTo>
                        <a:pt x="137" y="861"/>
                      </a:lnTo>
                      <a:lnTo>
                        <a:pt x="146" y="873"/>
                      </a:lnTo>
                      <a:lnTo>
                        <a:pt x="134" y="880"/>
                      </a:lnTo>
                      <a:lnTo>
                        <a:pt x="163" y="898"/>
                      </a:lnTo>
                      <a:lnTo>
                        <a:pt x="189" y="898"/>
                      </a:lnTo>
                      <a:lnTo>
                        <a:pt x="223" y="910"/>
                      </a:lnTo>
                      <a:lnTo>
                        <a:pt x="235" y="898"/>
                      </a:lnTo>
                      <a:lnTo>
                        <a:pt x="203" y="880"/>
                      </a:lnTo>
                      <a:lnTo>
                        <a:pt x="192" y="866"/>
                      </a:lnTo>
                      <a:lnTo>
                        <a:pt x="166" y="866"/>
                      </a:lnTo>
                      <a:lnTo>
                        <a:pt x="192" y="847"/>
                      </a:lnTo>
                      <a:lnTo>
                        <a:pt x="168" y="835"/>
                      </a:lnTo>
                      <a:lnTo>
                        <a:pt x="201" y="792"/>
                      </a:lnTo>
                      <a:lnTo>
                        <a:pt x="184" y="774"/>
                      </a:lnTo>
                      <a:lnTo>
                        <a:pt x="178" y="751"/>
                      </a:lnTo>
                      <a:lnTo>
                        <a:pt x="197" y="744"/>
                      </a:lnTo>
                      <a:lnTo>
                        <a:pt x="210" y="721"/>
                      </a:lnTo>
                      <a:lnTo>
                        <a:pt x="226" y="714"/>
                      </a:lnTo>
                      <a:lnTo>
                        <a:pt x="201" y="689"/>
                      </a:lnTo>
                      <a:lnTo>
                        <a:pt x="223" y="684"/>
                      </a:lnTo>
                      <a:lnTo>
                        <a:pt x="239" y="663"/>
                      </a:lnTo>
                      <a:lnTo>
                        <a:pt x="258" y="663"/>
                      </a:lnTo>
                      <a:lnTo>
                        <a:pt x="284" y="638"/>
                      </a:lnTo>
                      <a:lnTo>
                        <a:pt x="272" y="596"/>
                      </a:lnTo>
                      <a:lnTo>
                        <a:pt x="289" y="596"/>
                      </a:lnTo>
                      <a:lnTo>
                        <a:pt x="293" y="608"/>
                      </a:lnTo>
                      <a:lnTo>
                        <a:pt x="326" y="589"/>
                      </a:lnTo>
                      <a:lnTo>
                        <a:pt x="328" y="552"/>
                      </a:lnTo>
                      <a:lnTo>
                        <a:pt x="358" y="549"/>
                      </a:lnTo>
                      <a:lnTo>
                        <a:pt x="369" y="534"/>
                      </a:lnTo>
                      <a:lnTo>
                        <a:pt x="367" y="490"/>
                      </a:lnTo>
                      <a:lnTo>
                        <a:pt x="393" y="479"/>
                      </a:lnTo>
                      <a:lnTo>
                        <a:pt x="395" y="457"/>
                      </a:lnTo>
                      <a:lnTo>
                        <a:pt x="428" y="447"/>
                      </a:lnTo>
                      <a:lnTo>
                        <a:pt x="467" y="405"/>
                      </a:lnTo>
                      <a:lnTo>
                        <a:pt x="467" y="327"/>
                      </a:lnTo>
                      <a:lnTo>
                        <a:pt x="502" y="277"/>
                      </a:lnTo>
                      <a:lnTo>
                        <a:pt x="514" y="228"/>
                      </a:lnTo>
                      <a:lnTo>
                        <a:pt x="481" y="217"/>
                      </a:lnTo>
                      <a:lnTo>
                        <a:pt x="465" y="195"/>
                      </a:lnTo>
                      <a:lnTo>
                        <a:pt x="431" y="191"/>
                      </a:lnTo>
                      <a:lnTo>
                        <a:pt x="418" y="175"/>
                      </a:lnTo>
                      <a:lnTo>
                        <a:pt x="411" y="186"/>
                      </a:lnTo>
                      <a:lnTo>
                        <a:pt x="375" y="161"/>
                      </a:lnTo>
                      <a:lnTo>
                        <a:pt x="364" y="165"/>
                      </a:lnTo>
                      <a:lnTo>
                        <a:pt x="346" y="143"/>
                      </a:lnTo>
                      <a:lnTo>
                        <a:pt x="358" y="132"/>
                      </a:lnTo>
                      <a:lnTo>
                        <a:pt x="342" y="107"/>
                      </a:lnTo>
                      <a:lnTo>
                        <a:pt x="320" y="107"/>
                      </a:lnTo>
                      <a:lnTo>
                        <a:pt x="307" y="92"/>
                      </a:lnTo>
                      <a:lnTo>
                        <a:pt x="272" y="88"/>
                      </a:lnTo>
                      <a:lnTo>
                        <a:pt x="258" y="60"/>
                      </a:lnTo>
                      <a:lnTo>
                        <a:pt x="244" y="56"/>
                      </a:lnTo>
                      <a:lnTo>
                        <a:pt x="233" y="21"/>
                      </a:lnTo>
                      <a:lnTo>
                        <a:pt x="148" y="21"/>
                      </a:lnTo>
                      <a:lnTo>
                        <a:pt x="134" y="0"/>
                      </a:lnTo>
                      <a:lnTo>
                        <a:pt x="117" y="3"/>
                      </a:lnTo>
                      <a:lnTo>
                        <a:pt x="94" y="11"/>
                      </a:lnTo>
                      <a:lnTo>
                        <a:pt x="71" y="14"/>
                      </a:lnTo>
                      <a:lnTo>
                        <a:pt x="71" y="14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532240" y="5367240"/>
                  <a:ext cx="44280" cy="19800"/>
                </a:xfrm>
                <a:custGeom>
                  <a:avLst/>
                  <a:gdLst/>
                  <a:ahLst/>
                  <a:rect l="l" t="t" r="r" b="b"/>
                  <a:pathLst>
                    <a:path w="118" h="51">
                      <a:moveTo>
                        <a:pt x="118" y="41"/>
                      </a:moveTo>
                      <a:lnTo>
                        <a:pt x="98" y="51"/>
                      </a:lnTo>
                      <a:lnTo>
                        <a:pt x="69" y="41"/>
                      </a:lnTo>
                      <a:lnTo>
                        <a:pt x="38" y="26"/>
                      </a:lnTo>
                      <a:lnTo>
                        <a:pt x="0" y="20"/>
                      </a:lnTo>
                      <a:lnTo>
                        <a:pt x="10" y="10"/>
                      </a:lnTo>
                      <a:lnTo>
                        <a:pt x="41" y="0"/>
                      </a:lnTo>
                      <a:lnTo>
                        <a:pt x="72" y="26"/>
                      </a:lnTo>
                      <a:lnTo>
                        <a:pt x="118" y="41"/>
                      </a:lnTo>
                      <a:lnTo>
                        <a:pt x="118" y="4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567880" y="5387040"/>
                  <a:ext cx="34560" cy="7920"/>
                </a:xfrm>
                <a:custGeom>
                  <a:avLst/>
                  <a:gdLst/>
                  <a:ahLst/>
                  <a:rect l="l" t="t" r="r" b="b"/>
                  <a:pathLst>
                    <a:path w="92" h="22">
                      <a:moveTo>
                        <a:pt x="92" y="17"/>
                      </a:moveTo>
                      <a:lnTo>
                        <a:pt x="64" y="0"/>
                      </a:lnTo>
                      <a:lnTo>
                        <a:pt x="26" y="1"/>
                      </a:lnTo>
                      <a:lnTo>
                        <a:pt x="0" y="15"/>
                      </a:lnTo>
                      <a:lnTo>
                        <a:pt x="26" y="17"/>
                      </a:lnTo>
                      <a:lnTo>
                        <a:pt x="64" y="22"/>
                      </a:lnTo>
                      <a:lnTo>
                        <a:pt x="92" y="17"/>
                      </a:lnTo>
                      <a:lnTo>
                        <a:pt x="92" y="17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553480" y="5393520"/>
                  <a:ext cx="14040" cy="5400"/>
                </a:xfrm>
                <a:custGeom>
                  <a:avLst/>
                  <a:gdLst/>
                  <a:ahLst/>
                  <a:rect l="l" t="t" r="r" b="b"/>
                  <a:pathLst>
                    <a:path w="39" h="13">
                      <a:moveTo>
                        <a:pt x="39" y="13"/>
                      </a:moveTo>
                      <a:lnTo>
                        <a:pt x="28" y="0"/>
                      </a:lnTo>
                      <a:lnTo>
                        <a:pt x="1" y="0"/>
                      </a:lnTo>
                      <a:lnTo>
                        <a:pt x="0" y="13"/>
                      </a:lnTo>
                      <a:lnTo>
                        <a:pt x="39" y="13"/>
                      </a:lnTo>
                      <a:lnTo>
                        <a:pt x="39" y="13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561760" y="535140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6" y="0"/>
                      </a:move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6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567880" y="535536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0"/>
                      </a:moveTo>
                      <a:lnTo>
                        <a:pt x="13" y="15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572920" y="5364720"/>
                  <a:ext cx="3600" cy="540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2" y="0"/>
                      </a:moveTo>
                      <a:lnTo>
                        <a:pt x="10" y="11"/>
                      </a:lnTo>
                      <a:lnTo>
                        <a:pt x="0" y="16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798640" y="5303520"/>
                  <a:ext cx="277200" cy="381240"/>
                </a:xfrm>
                <a:custGeom>
                  <a:avLst/>
                  <a:gdLst/>
                  <a:ahLst/>
                  <a:rect l="l" t="t" r="r" b="b"/>
                  <a:pathLst>
                    <a:path w="737" h="958">
                      <a:moveTo>
                        <a:pt x="536" y="91"/>
                      </a:moveTo>
                      <a:lnTo>
                        <a:pt x="456" y="72"/>
                      </a:lnTo>
                      <a:lnTo>
                        <a:pt x="409" y="65"/>
                      </a:lnTo>
                      <a:lnTo>
                        <a:pt x="397" y="84"/>
                      </a:lnTo>
                      <a:lnTo>
                        <a:pt x="370" y="84"/>
                      </a:lnTo>
                      <a:lnTo>
                        <a:pt x="341" y="61"/>
                      </a:lnTo>
                      <a:lnTo>
                        <a:pt x="301" y="55"/>
                      </a:lnTo>
                      <a:lnTo>
                        <a:pt x="312" y="6"/>
                      </a:lnTo>
                      <a:lnTo>
                        <a:pt x="274" y="0"/>
                      </a:lnTo>
                      <a:lnTo>
                        <a:pt x="245" y="6"/>
                      </a:lnTo>
                      <a:lnTo>
                        <a:pt x="213" y="6"/>
                      </a:lnTo>
                      <a:lnTo>
                        <a:pt x="172" y="26"/>
                      </a:lnTo>
                      <a:lnTo>
                        <a:pt x="120" y="30"/>
                      </a:lnTo>
                      <a:lnTo>
                        <a:pt x="98" y="59"/>
                      </a:lnTo>
                      <a:lnTo>
                        <a:pt x="73" y="74"/>
                      </a:lnTo>
                      <a:lnTo>
                        <a:pt x="61" y="116"/>
                      </a:lnTo>
                      <a:lnTo>
                        <a:pt x="35" y="140"/>
                      </a:lnTo>
                      <a:lnTo>
                        <a:pt x="3" y="197"/>
                      </a:lnTo>
                      <a:lnTo>
                        <a:pt x="11" y="243"/>
                      </a:lnTo>
                      <a:lnTo>
                        <a:pt x="0" y="295"/>
                      </a:lnTo>
                      <a:lnTo>
                        <a:pt x="7" y="338"/>
                      </a:lnTo>
                      <a:lnTo>
                        <a:pt x="41" y="361"/>
                      </a:lnTo>
                      <a:lnTo>
                        <a:pt x="50" y="396"/>
                      </a:lnTo>
                      <a:lnTo>
                        <a:pt x="76" y="405"/>
                      </a:lnTo>
                      <a:lnTo>
                        <a:pt x="91" y="429"/>
                      </a:lnTo>
                      <a:lnTo>
                        <a:pt x="140" y="441"/>
                      </a:lnTo>
                      <a:lnTo>
                        <a:pt x="203" y="431"/>
                      </a:lnTo>
                      <a:lnTo>
                        <a:pt x="221" y="409"/>
                      </a:lnTo>
                      <a:lnTo>
                        <a:pt x="251" y="435"/>
                      </a:lnTo>
                      <a:lnTo>
                        <a:pt x="284" y="435"/>
                      </a:lnTo>
                      <a:lnTo>
                        <a:pt x="297" y="452"/>
                      </a:lnTo>
                      <a:lnTo>
                        <a:pt x="272" y="483"/>
                      </a:lnTo>
                      <a:lnTo>
                        <a:pt x="274" y="525"/>
                      </a:lnTo>
                      <a:lnTo>
                        <a:pt x="312" y="562"/>
                      </a:lnTo>
                      <a:lnTo>
                        <a:pt x="318" y="613"/>
                      </a:lnTo>
                      <a:lnTo>
                        <a:pt x="309" y="662"/>
                      </a:lnTo>
                      <a:lnTo>
                        <a:pt x="304" y="694"/>
                      </a:lnTo>
                      <a:lnTo>
                        <a:pt x="292" y="723"/>
                      </a:lnTo>
                      <a:lnTo>
                        <a:pt x="304" y="740"/>
                      </a:lnTo>
                      <a:lnTo>
                        <a:pt x="306" y="762"/>
                      </a:lnTo>
                      <a:lnTo>
                        <a:pt x="333" y="783"/>
                      </a:lnTo>
                      <a:lnTo>
                        <a:pt x="352" y="869"/>
                      </a:lnTo>
                      <a:lnTo>
                        <a:pt x="364" y="882"/>
                      </a:lnTo>
                      <a:lnTo>
                        <a:pt x="364" y="944"/>
                      </a:lnTo>
                      <a:lnTo>
                        <a:pt x="377" y="958"/>
                      </a:lnTo>
                      <a:lnTo>
                        <a:pt x="438" y="958"/>
                      </a:lnTo>
                      <a:lnTo>
                        <a:pt x="476" y="937"/>
                      </a:lnTo>
                      <a:lnTo>
                        <a:pt x="486" y="902"/>
                      </a:lnTo>
                      <a:lnTo>
                        <a:pt x="500" y="892"/>
                      </a:lnTo>
                      <a:lnTo>
                        <a:pt x="500" y="859"/>
                      </a:lnTo>
                      <a:lnTo>
                        <a:pt x="526" y="846"/>
                      </a:lnTo>
                      <a:lnTo>
                        <a:pt x="556" y="814"/>
                      </a:lnTo>
                      <a:lnTo>
                        <a:pt x="556" y="787"/>
                      </a:lnTo>
                      <a:lnTo>
                        <a:pt x="544" y="762"/>
                      </a:lnTo>
                      <a:lnTo>
                        <a:pt x="558" y="746"/>
                      </a:lnTo>
                      <a:lnTo>
                        <a:pt x="610" y="726"/>
                      </a:lnTo>
                      <a:lnTo>
                        <a:pt x="617" y="697"/>
                      </a:lnTo>
                      <a:lnTo>
                        <a:pt x="615" y="657"/>
                      </a:lnTo>
                      <a:lnTo>
                        <a:pt x="607" y="645"/>
                      </a:lnTo>
                      <a:lnTo>
                        <a:pt x="607" y="581"/>
                      </a:lnTo>
                      <a:lnTo>
                        <a:pt x="628" y="541"/>
                      </a:lnTo>
                      <a:lnTo>
                        <a:pt x="662" y="508"/>
                      </a:lnTo>
                      <a:lnTo>
                        <a:pt x="688" y="496"/>
                      </a:lnTo>
                      <a:lnTo>
                        <a:pt x="708" y="466"/>
                      </a:lnTo>
                      <a:lnTo>
                        <a:pt x="710" y="447"/>
                      </a:lnTo>
                      <a:lnTo>
                        <a:pt x="731" y="429"/>
                      </a:lnTo>
                      <a:lnTo>
                        <a:pt x="737" y="396"/>
                      </a:lnTo>
                      <a:lnTo>
                        <a:pt x="731" y="369"/>
                      </a:lnTo>
                      <a:lnTo>
                        <a:pt x="714" y="369"/>
                      </a:lnTo>
                      <a:lnTo>
                        <a:pt x="703" y="380"/>
                      </a:lnTo>
                      <a:lnTo>
                        <a:pt x="662" y="376"/>
                      </a:lnTo>
                      <a:lnTo>
                        <a:pt x="597" y="295"/>
                      </a:lnTo>
                      <a:lnTo>
                        <a:pt x="587" y="250"/>
                      </a:lnTo>
                      <a:lnTo>
                        <a:pt x="556" y="158"/>
                      </a:lnTo>
                      <a:lnTo>
                        <a:pt x="538" y="104"/>
                      </a:lnTo>
                      <a:lnTo>
                        <a:pt x="536" y="91"/>
                      </a:lnTo>
                      <a:lnTo>
                        <a:pt x="536" y="9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039120" y="5554080"/>
                  <a:ext cx="28440" cy="67680"/>
                </a:xfrm>
                <a:custGeom>
                  <a:avLst/>
                  <a:gdLst/>
                  <a:ahLst/>
                  <a:rect l="l" t="t" r="r" b="b"/>
                  <a:pathLst>
                    <a:path w="75" h="169">
                      <a:moveTo>
                        <a:pt x="57" y="2"/>
                      </a:moveTo>
                      <a:lnTo>
                        <a:pt x="44" y="39"/>
                      </a:lnTo>
                      <a:lnTo>
                        <a:pt x="6" y="61"/>
                      </a:lnTo>
                      <a:lnTo>
                        <a:pt x="0" y="125"/>
                      </a:lnTo>
                      <a:lnTo>
                        <a:pt x="8" y="169"/>
                      </a:lnTo>
                      <a:lnTo>
                        <a:pt x="44" y="169"/>
                      </a:lnTo>
                      <a:lnTo>
                        <a:pt x="63" y="89"/>
                      </a:lnTo>
                      <a:lnTo>
                        <a:pt x="75" y="41"/>
                      </a:lnTo>
                      <a:lnTo>
                        <a:pt x="65" y="0"/>
                      </a:lnTo>
                      <a:lnTo>
                        <a:pt x="57" y="2"/>
                      </a:lnTo>
                      <a:lnTo>
                        <a:pt x="57" y="2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187080" y="5453280"/>
                  <a:ext cx="12600" cy="22320"/>
                </a:xfrm>
                <a:custGeom>
                  <a:avLst/>
                  <a:gdLst/>
                  <a:ahLst/>
                  <a:rect l="l" t="t" r="r" b="b"/>
                  <a:pathLst>
                    <a:path w="32" h="55">
                      <a:moveTo>
                        <a:pt x="12" y="0"/>
                      </a:moveTo>
                      <a:lnTo>
                        <a:pt x="0" y="35"/>
                      </a:lnTo>
                      <a:lnTo>
                        <a:pt x="12" y="55"/>
                      </a:lnTo>
                      <a:lnTo>
                        <a:pt x="32" y="46"/>
                      </a:lnTo>
                      <a:lnTo>
                        <a:pt x="25" y="27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854440" y="5175360"/>
                  <a:ext cx="27720" cy="62640"/>
                </a:xfrm>
                <a:custGeom>
                  <a:avLst/>
                  <a:gdLst/>
                  <a:ahLst/>
                  <a:rect l="l" t="t" r="r" b="b"/>
                  <a:pathLst>
                    <a:path w="75" h="158">
                      <a:moveTo>
                        <a:pt x="41" y="1"/>
                      </a:moveTo>
                      <a:lnTo>
                        <a:pt x="45" y="24"/>
                      </a:lnTo>
                      <a:lnTo>
                        <a:pt x="27" y="39"/>
                      </a:lnTo>
                      <a:lnTo>
                        <a:pt x="44" y="39"/>
                      </a:lnTo>
                      <a:lnTo>
                        <a:pt x="50" y="50"/>
                      </a:lnTo>
                      <a:lnTo>
                        <a:pt x="41" y="64"/>
                      </a:lnTo>
                      <a:lnTo>
                        <a:pt x="58" y="74"/>
                      </a:lnTo>
                      <a:lnTo>
                        <a:pt x="60" y="99"/>
                      </a:lnTo>
                      <a:lnTo>
                        <a:pt x="72" y="109"/>
                      </a:lnTo>
                      <a:lnTo>
                        <a:pt x="75" y="124"/>
                      </a:lnTo>
                      <a:lnTo>
                        <a:pt x="50" y="137"/>
                      </a:lnTo>
                      <a:lnTo>
                        <a:pt x="20" y="148"/>
                      </a:lnTo>
                      <a:lnTo>
                        <a:pt x="2" y="158"/>
                      </a:lnTo>
                      <a:lnTo>
                        <a:pt x="13" y="141"/>
                      </a:lnTo>
                      <a:lnTo>
                        <a:pt x="20" y="135"/>
                      </a:lnTo>
                      <a:lnTo>
                        <a:pt x="8" y="132"/>
                      </a:lnTo>
                      <a:lnTo>
                        <a:pt x="17" y="113"/>
                      </a:lnTo>
                      <a:lnTo>
                        <a:pt x="10" y="105"/>
                      </a:lnTo>
                      <a:lnTo>
                        <a:pt x="25" y="105"/>
                      </a:lnTo>
                      <a:lnTo>
                        <a:pt x="32" y="92"/>
                      </a:lnTo>
                      <a:lnTo>
                        <a:pt x="20" y="81"/>
                      </a:lnTo>
                      <a:lnTo>
                        <a:pt x="0" y="63"/>
                      </a:lnTo>
                      <a:lnTo>
                        <a:pt x="0" y="30"/>
                      </a:lnTo>
                      <a:lnTo>
                        <a:pt x="10" y="24"/>
                      </a:lnTo>
                      <a:lnTo>
                        <a:pt x="32" y="17"/>
                      </a:lnTo>
                      <a:lnTo>
                        <a:pt x="38" y="0"/>
                      </a:lnTo>
                      <a:lnTo>
                        <a:pt x="41" y="1"/>
                      </a:lnTo>
                      <a:lnTo>
                        <a:pt x="41" y="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37880" y="5202360"/>
                  <a:ext cx="17280" cy="2772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9" y="32"/>
                      </a:lnTo>
                      <a:lnTo>
                        <a:pt x="46" y="57"/>
                      </a:lnTo>
                      <a:lnTo>
                        <a:pt x="32" y="70"/>
                      </a:lnTo>
                      <a:lnTo>
                        <a:pt x="0" y="68"/>
                      </a:lnTo>
                      <a:lnTo>
                        <a:pt x="9" y="39"/>
                      </a:lnTo>
                      <a:lnTo>
                        <a:pt x="4" y="15"/>
                      </a:lnTo>
                      <a:lnTo>
                        <a:pt x="29" y="0"/>
                      </a:lnTo>
                      <a:lnTo>
                        <a:pt x="46" y="18"/>
                      </a:lnTo>
                      <a:lnTo>
                        <a:pt x="46" y="18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913840" y="5022720"/>
                  <a:ext cx="51120" cy="29880"/>
                </a:xfrm>
                <a:custGeom>
                  <a:avLst/>
                  <a:gdLst/>
                  <a:ahLst/>
                  <a:rect l="l" t="t" r="r" b="b"/>
                  <a:pathLst>
                    <a:path w="137" h="78">
                      <a:moveTo>
                        <a:pt x="137" y="49"/>
                      </a:moveTo>
                      <a:lnTo>
                        <a:pt x="103" y="38"/>
                      </a:lnTo>
                      <a:lnTo>
                        <a:pt x="67" y="2"/>
                      </a:lnTo>
                      <a:lnTo>
                        <a:pt x="48" y="0"/>
                      </a:lnTo>
                      <a:lnTo>
                        <a:pt x="42" y="12"/>
                      </a:lnTo>
                      <a:lnTo>
                        <a:pt x="3" y="12"/>
                      </a:lnTo>
                      <a:lnTo>
                        <a:pt x="0" y="29"/>
                      </a:lnTo>
                      <a:lnTo>
                        <a:pt x="34" y="43"/>
                      </a:lnTo>
                      <a:lnTo>
                        <a:pt x="24" y="54"/>
                      </a:lnTo>
                      <a:lnTo>
                        <a:pt x="45" y="78"/>
                      </a:lnTo>
                      <a:lnTo>
                        <a:pt x="69" y="62"/>
                      </a:lnTo>
                      <a:lnTo>
                        <a:pt x="84" y="32"/>
                      </a:lnTo>
                      <a:lnTo>
                        <a:pt x="101" y="45"/>
                      </a:lnTo>
                      <a:lnTo>
                        <a:pt x="88" y="60"/>
                      </a:lnTo>
                      <a:lnTo>
                        <a:pt x="118" y="69"/>
                      </a:lnTo>
                      <a:lnTo>
                        <a:pt x="133" y="62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943360" y="5022720"/>
                  <a:ext cx="29160" cy="936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0" y="2"/>
                      </a:moveTo>
                      <a:lnTo>
                        <a:pt x="73" y="0"/>
                      </a:lnTo>
                      <a:lnTo>
                        <a:pt x="78" y="12"/>
                      </a:lnTo>
                      <a:lnTo>
                        <a:pt x="62" y="17"/>
                      </a:lnTo>
                      <a:lnTo>
                        <a:pt x="38" y="25"/>
                      </a:lnTo>
                      <a:lnTo>
                        <a:pt x="16" y="18"/>
                      </a:lnTo>
                      <a:lnTo>
                        <a:pt x="30" y="12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55680" y="5051880"/>
                  <a:ext cx="56520" cy="47520"/>
                </a:xfrm>
                <a:custGeom>
                  <a:avLst/>
                  <a:gdLst/>
                  <a:ahLst/>
                  <a:rect l="l" t="t" r="r" b="b"/>
                  <a:pathLst>
                    <a:path w="149" h="121">
                      <a:moveTo>
                        <a:pt x="149" y="1"/>
                      </a:moveTo>
                      <a:lnTo>
                        <a:pt x="124" y="0"/>
                      </a:lnTo>
                      <a:lnTo>
                        <a:pt x="105" y="14"/>
                      </a:lnTo>
                      <a:lnTo>
                        <a:pt x="59" y="25"/>
                      </a:lnTo>
                      <a:lnTo>
                        <a:pt x="24" y="38"/>
                      </a:lnTo>
                      <a:lnTo>
                        <a:pt x="13" y="67"/>
                      </a:lnTo>
                      <a:lnTo>
                        <a:pt x="0" y="103"/>
                      </a:lnTo>
                      <a:lnTo>
                        <a:pt x="24" y="121"/>
                      </a:lnTo>
                      <a:lnTo>
                        <a:pt x="53" y="115"/>
                      </a:lnTo>
                      <a:lnTo>
                        <a:pt x="37" y="97"/>
                      </a:lnTo>
                      <a:lnTo>
                        <a:pt x="55" y="53"/>
                      </a:lnTo>
                      <a:lnTo>
                        <a:pt x="94" y="34"/>
                      </a:lnTo>
                      <a:lnTo>
                        <a:pt x="149" y="17"/>
                      </a:lnTo>
                      <a:lnTo>
                        <a:pt x="149" y="1"/>
                      </a:lnTo>
                      <a:lnTo>
                        <a:pt x="149" y="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086640" y="501768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30" h="11">
                      <a:moveTo>
                        <a:pt x="7" y="0"/>
                      </a:moveTo>
                      <a:lnTo>
                        <a:pt x="0" y="10"/>
                      </a:lnTo>
                      <a:lnTo>
                        <a:pt x="30" y="11"/>
                      </a:lnTo>
                      <a:lnTo>
                        <a:pt x="30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074040" y="5017680"/>
                  <a:ext cx="9000" cy="9360"/>
                </a:xfrm>
                <a:custGeom>
                  <a:avLst/>
                  <a:gdLst/>
                  <a:ahLst/>
                  <a:rect l="l" t="t" r="r" b="b"/>
                  <a:pathLst>
                    <a:path w="25" h="23">
                      <a:moveTo>
                        <a:pt x="12" y="0"/>
                      </a:moveTo>
                      <a:lnTo>
                        <a:pt x="25" y="8"/>
                      </a:lnTo>
                      <a:lnTo>
                        <a:pt x="18" y="23"/>
                      </a:lnTo>
                      <a:lnTo>
                        <a:pt x="0" y="11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065040" y="5010840"/>
                  <a:ext cx="7200" cy="7920"/>
                </a:xfrm>
                <a:custGeom>
                  <a:avLst/>
                  <a:gdLst/>
                  <a:ahLst/>
                  <a:rect l="l" t="t" r="r" b="b"/>
                  <a:pathLst>
                    <a:path w="19" h="21">
                      <a:moveTo>
                        <a:pt x="0" y="0"/>
                      </a:moveTo>
                      <a:lnTo>
                        <a:pt x="15" y="10"/>
                      </a:lnTo>
                      <a:lnTo>
                        <a:pt x="19" y="21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034800" y="501552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88" h="36">
                      <a:moveTo>
                        <a:pt x="76" y="20"/>
                      </a:moveTo>
                      <a:lnTo>
                        <a:pt x="88" y="32"/>
                      </a:lnTo>
                      <a:lnTo>
                        <a:pt x="57" y="36"/>
                      </a:lnTo>
                      <a:lnTo>
                        <a:pt x="26" y="12"/>
                      </a:lnTo>
                      <a:lnTo>
                        <a:pt x="0" y="20"/>
                      </a:lnTo>
                      <a:lnTo>
                        <a:pt x="8" y="10"/>
                      </a:lnTo>
                      <a:lnTo>
                        <a:pt x="37" y="0"/>
                      </a:lnTo>
                      <a:lnTo>
                        <a:pt x="63" y="18"/>
                      </a:lnTo>
                      <a:lnTo>
                        <a:pt x="76" y="20"/>
                      </a:lnTo>
                      <a:lnTo>
                        <a:pt x="76" y="2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7880" y="5059440"/>
                  <a:ext cx="714240" cy="451080"/>
                </a:xfrm>
                <a:custGeom>
                  <a:avLst/>
                  <a:gdLst/>
                  <a:ahLst/>
                  <a:rect l="l" t="t" r="r" b="b"/>
                  <a:pathLst>
                    <a:path w="1895" h="1136">
                      <a:moveTo>
                        <a:pt x="1895" y="217"/>
                      </a:moveTo>
                      <a:lnTo>
                        <a:pt x="1848" y="188"/>
                      </a:lnTo>
                      <a:lnTo>
                        <a:pt x="1796" y="184"/>
                      </a:lnTo>
                      <a:lnTo>
                        <a:pt x="1723" y="148"/>
                      </a:lnTo>
                      <a:lnTo>
                        <a:pt x="1595" y="148"/>
                      </a:lnTo>
                      <a:lnTo>
                        <a:pt x="1564" y="134"/>
                      </a:lnTo>
                      <a:lnTo>
                        <a:pt x="1492" y="124"/>
                      </a:lnTo>
                      <a:lnTo>
                        <a:pt x="1465" y="103"/>
                      </a:lnTo>
                      <a:lnTo>
                        <a:pt x="1373" y="85"/>
                      </a:lnTo>
                      <a:lnTo>
                        <a:pt x="1381" y="103"/>
                      </a:lnTo>
                      <a:lnTo>
                        <a:pt x="1345" y="103"/>
                      </a:lnTo>
                      <a:lnTo>
                        <a:pt x="1300" y="99"/>
                      </a:lnTo>
                      <a:lnTo>
                        <a:pt x="1291" y="118"/>
                      </a:lnTo>
                      <a:lnTo>
                        <a:pt x="1250" y="79"/>
                      </a:lnTo>
                      <a:lnTo>
                        <a:pt x="1177" y="65"/>
                      </a:lnTo>
                      <a:lnTo>
                        <a:pt x="1111" y="60"/>
                      </a:lnTo>
                      <a:lnTo>
                        <a:pt x="1126" y="16"/>
                      </a:lnTo>
                      <a:lnTo>
                        <a:pt x="1053" y="0"/>
                      </a:lnTo>
                      <a:lnTo>
                        <a:pt x="988" y="25"/>
                      </a:lnTo>
                      <a:lnTo>
                        <a:pt x="899" y="39"/>
                      </a:lnTo>
                      <a:lnTo>
                        <a:pt x="881" y="69"/>
                      </a:lnTo>
                      <a:lnTo>
                        <a:pt x="843" y="74"/>
                      </a:lnTo>
                      <a:lnTo>
                        <a:pt x="843" y="99"/>
                      </a:lnTo>
                      <a:lnTo>
                        <a:pt x="807" y="103"/>
                      </a:lnTo>
                      <a:lnTo>
                        <a:pt x="788" y="85"/>
                      </a:lnTo>
                      <a:lnTo>
                        <a:pt x="800" y="134"/>
                      </a:lnTo>
                      <a:lnTo>
                        <a:pt x="765" y="79"/>
                      </a:lnTo>
                      <a:lnTo>
                        <a:pt x="720" y="90"/>
                      </a:lnTo>
                      <a:lnTo>
                        <a:pt x="700" y="134"/>
                      </a:lnTo>
                      <a:lnTo>
                        <a:pt x="657" y="109"/>
                      </a:lnTo>
                      <a:lnTo>
                        <a:pt x="642" y="124"/>
                      </a:lnTo>
                      <a:lnTo>
                        <a:pt x="634" y="145"/>
                      </a:lnTo>
                      <a:lnTo>
                        <a:pt x="577" y="148"/>
                      </a:lnTo>
                      <a:lnTo>
                        <a:pt x="546" y="172"/>
                      </a:lnTo>
                      <a:lnTo>
                        <a:pt x="526" y="148"/>
                      </a:lnTo>
                      <a:lnTo>
                        <a:pt x="500" y="145"/>
                      </a:lnTo>
                      <a:lnTo>
                        <a:pt x="512" y="184"/>
                      </a:lnTo>
                      <a:lnTo>
                        <a:pt x="481" y="214"/>
                      </a:lnTo>
                      <a:lnTo>
                        <a:pt x="443" y="214"/>
                      </a:lnTo>
                      <a:lnTo>
                        <a:pt x="408" y="172"/>
                      </a:lnTo>
                      <a:lnTo>
                        <a:pt x="443" y="172"/>
                      </a:lnTo>
                      <a:lnTo>
                        <a:pt x="462" y="188"/>
                      </a:lnTo>
                      <a:lnTo>
                        <a:pt x="497" y="178"/>
                      </a:lnTo>
                      <a:lnTo>
                        <a:pt x="465" y="139"/>
                      </a:lnTo>
                      <a:lnTo>
                        <a:pt x="415" y="109"/>
                      </a:lnTo>
                      <a:lnTo>
                        <a:pt x="403" y="118"/>
                      </a:lnTo>
                      <a:lnTo>
                        <a:pt x="376" y="99"/>
                      </a:lnTo>
                      <a:lnTo>
                        <a:pt x="358" y="109"/>
                      </a:lnTo>
                      <a:lnTo>
                        <a:pt x="320" y="99"/>
                      </a:lnTo>
                      <a:lnTo>
                        <a:pt x="296" y="114"/>
                      </a:lnTo>
                      <a:lnTo>
                        <a:pt x="250" y="118"/>
                      </a:lnTo>
                      <a:lnTo>
                        <a:pt x="219" y="148"/>
                      </a:lnTo>
                      <a:lnTo>
                        <a:pt x="242" y="154"/>
                      </a:lnTo>
                      <a:lnTo>
                        <a:pt x="219" y="208"/>
                      </a:lnTo>
                      <a:lnTo>
                        <a:pt x="158" y="247"/>
                      </a:lnTo>
                      <a:lnTo>
                        <a:pt x="150" y="296"/>
                      </a:lnTo>
                      <a:lnTo>
                        <a:pt x="177" y="317"/>
                      </a:lnTo>
                      <a:lnTo>
                        <a:pt x="204" y="311"/>
                      </a:lnTo>
                      <a:lnTo>
                        <a:pt x="219" y="331"/>
                      </a:lnTo>
                      <a:lnTo>
                        <a:pt x="236" y="364"/>
                      </a:lnTo>
                      <a:lnTo>
                        <a:pt x="262" y="356"/>
                      </a:lnTo>
                      <a:lnTo>
                        <a:pt x="278" y="307"/>
                      </a:lnTo>
                      <a:lnTo>
                        <a:pt x="292" y="296"/>
                      </a:lnTo>
                      <a:lnTo>
                        <a:pt x="273" y="247"/>
                      </a:lnTo>
                      <a:lnTo>
                        <a:pt x="309" y="198"/>
                      </a:lnTo>
                      <a:lnTo>
                        <a:pt x="339" y="194"/>
                      </a:lnTo>
                      <a:lnTo>
                        <a:pt x="311" y="232"/>
                      </a:lnTo>
                      <a:lnTo>
                        <a:pt x="311" y="287"/>
                      </a:lnTo>
                      <a:lnTo>
                        <a:pt x="376" y="293"/>
                      </a:lnTo>
                      <a:lnTo>
                        <a:pt x="330" y="307"/>
                      </a:lnTo>
                      <a:lnTo>
                        <a:pt x="339" y="326"/>
                      </a:lnTo>
                      <a:lnTo>
                        <a:pt x="309" y="317"/>
                      </a:lnTo>
                      <a:lnTo>
                        <a:pt x="304" y="350"/>
                      </a:lnTo>
                      <a:lnTo>
                        <a:pt x="262" y="380"/>
                      </a:lnTo>
                      <a:lnTo>
                        <a:pt x="236" y="370"/>
                      </a:lnTo>
                      <a:lnTo>
                        <a:pt x="204" y="370"/>
                      </a:lnTo>
                      <a:lnTo>
                        <a:pt x="204" y="336"/>
                      </a:lnTo>
                      <a:lnTo>
                        <a:pt x="181" y="331"/>
                      </a:lnTo>
                      <a:lnTo>
                        <a:pt x="169" y="350"/>
                      </a:lnTo>
                      <a:lnTo>
                        <a:pt x="181" y="376"/>
                      </a:lnTo>
                      <a:lnTo>
                        <a:pt x="146" y="386"/>
                      </a:lnTo>
                      <a:lnTo>
                        <a:pt x="136" y="419"/>
                      </a:lnTo>
                      <a:lnTo>
                        <a:pt x="93" y="449"/>
                      </a:lnTo>
                      <a:lnTo>
                        <a:pt x="44" y="469"/>
                      </a:lnTo>
                      <a:lnTo>
                        <a:pt x="61" y="489"/>
                      </a:lnTo>
                      <a:lnTo>
                        <a:pt x="81" y="503"/>
                      </a:lnTo>
                      <a:lnTo>
                        <a:pt x="70" y="539"/>
                      </a:lnTo>
                      <a:lnTo>
                        <a:pt x="39" y="528"/>
                      </a:lnTo>
                      <a:lnTo>
                        <a:pt x="0" y="542"/>
                      </a:lnTo>
                      <a:lnTo>
                        <a:pt x="0" y="583"/>
                      </a:lnTo>
                      <a:lnTo>
                        <a:pt x="12" y="621"/>
                      </a:lnTo>
                      <a:lnTo>
                        <a:pt x="39" y="632"/>
                      </a:lnTo>
                      <a:lnTo>
                        <a:pt x="104" y="612"/>
                      </a:lnTo>
                      <a:lnTo>
                        <a:pt x="95" y="588"/>
                      </a:lnTo>
                      <a:lnTo>
                        <a:pt x="116" y="572"/>
                      </a:lnTo>
                      <a:lnTo>
                        <a:pt x="142" y="563"/>
                      </a:lnTo>
                      <a:lnTo>
                        <a:pt x="142" y="548"/>
                      </a:lnTo>
                      <a:lnTo>
                        <a:pt x="193" y="534"/>
                      </a:lnTo>
                      <a:lnTo>
                        <a:pt x="219" y="558"/>
                      </a:lnTo>
                      <a:lnTo>
                        <a:pt x="247" y="572"/>
                      </a:lnTo>
                      <a:lnTo>
                        <a:pt x="254" y="612"/>
                      </a:lnTo>
                      <a:lnTo>
                        <a:pt x="269" y="607"/>
                      </a:lnTo>
                      <a:lnTo>
                        <a:pt x="269" y="588"/>
                      </a:lnTo>
                      <a:lnTo>
                        <a:pt x="286" y="588"/>
                      </a:lnTo>
                      <a:lnTo>
                        <a:pt x="257" y="567"/>
                      </a:lnTo>
                      <a:lnTo>
                        <a:pt x="228" y="539"/>
                      </a:lnTo>
                      <a:lnTo>
                        <a:pt x="228" y="508"/>
                      </a:lnTo>
                      <a:lnTo>
                        <a:pt x="254" y="548"/>
                      </a:lnTo>
                      <a:lnTo>
                        <a:pt x="278" y="558"/>
                      </a:lnTo>
                      <a:lnTo>
                        <a:pt x="296" y="591"/>
                      </a:lnTo>
                      <a:lnTo>
                        <a:pt x="309" y="607"/>
                      </a:lnTo>
                      <a:lnTo>
                        <a:pt x="309" y="621"/>
                      </a:lnTo>
                      <a:lnTo>
                        <a:pt x="320" y="618"/>
                      </a:lnTo>
                      <a:lnTo>
                        <a:pt x="330" y="643"/>
                      </a:lnTo>
                      <a:lnTo>
                        <a:pt x="351" y="621"/>
                      </a:lnTo>
                      <a:lnTo>
                        <a:pt x="323" y="588"/>
                      </a:lnTo>
                      <a:lnTo>
                        <a:pt x="361" y="583"/>
                      </a:lnTo>
                      <a:lnTo>
                        <a:pt x="358" y="596"/>
                      </a:lnTo>
                      <a:lnTo>
                        <a:pt x="384" y="643"/>
                      </a:lnTo>
                      <a:lnTo>
                        <a:pt x="412" y="651"/>
                      </a:lnTo>
                      <a:lnTo>
                        <a:pt x="434" y="636"/>
                      </a:lnTo>
                      <a:lnTo>
                        <a:pt x="453" y="647"/>
                      </a:lnTo>
                      <a:lnTo>
                        <a:pt x="443" y="681"/>
                      </a:lnTo>
                      <a:lnTo>
                        <a:pt x="450" y="696"/>
                      </a:lnTo>
                      <a:lnTo>
                        <a:pt x="431" y="701"/>
                      </a:lnTo>
                      <a:lnTo>
                        <a:pt x="450" y="780"/>
                      </a:lnTo>
                      <a:lnTo>
                        <a:pt x="476" y="794"/>
                      </a:lnTo>
                      <a:lnTo>
                        <a:pt x="504" y="819"/>
                      </a:lnTo>
                      <a:lnTo>
                        <a:pt x="504" y="854"/>
                      </a:lnTo>
                      <a:lnTo>
                        <a:pt x="543" y="908"/>
                      </a:lnTo>
                      <a:lnTo>
                        <a:pt x="546" y="953"/>
                      </a:lnTo>
                      <a:lnTo>
                        <a:pt x="600" y="958"/>
                      </a:lnTo>
                      <a:lnTo>
                        <a:pt x="646" y="928"/>
                      </a:lnTo>
                      <a:lnTo>
                        <a:pt x="700" y="913"/>
                      </a:lnTo>
                      <a:lnTo>
                        <a:pt x="700" y="874"/>
                      </a:lnTo>
                      <a:lnTo>
                        <a:pt x="731" y="849"/>
                      </a:lnTo>
                      <a:lnTo>
                        <a:pt x="715" y="819"/>
                      </a:lnTo>
                      <a:lnTo>
                        <a:pt x="684" y="799"/>
                      </a:lnTo>
                      <a:lnTo>
                        <a:pt x="657" y="805"/>
                      </a:lnTo>
                      <a:lnTo>
                        <a:pt x="634" y="805"/>
                      </a:lnTo>
                      <a:lnTo>
                        <a:pt x="610" y="784"/>
                      </a:lnTo>
                      <a:lnTo>
                        <a:pt x="600" y="745"/>
                      </a:lnTo>
                      <a:lnTo>
                        <a:pt x="646" y="780"/>
                      </a:lnTo>
                      <a:lnTo>
                        <a:pt x="700" y="790"/>
                      </a:lnTo>
                      <a:lnTo>
                        <a:pt x="749" y="810"/>
                      </a:lnTo>
                      <a:lnTo>
                        <a:pt x="816" y="810"/>
                      </a:lnTo>
                      <a:lnTo>
                        <a:pt x="838" y="854"/>
                      </a:lnTo>
                      <a:lnTo>
                        <a:pt x="857" y="928"/>
                      </a:lnTo>
                      <a:lnTo>
                        <a:pt x="896" y="1006"/>
                      </a:lnTo>
                      <a:lnTo>
                        <a:pt x="927" y="997"/>
                      </a:lnTo>
                      <a:lnTo>
                        <a:pt x="935" y="919"/>
                      </a:lnTo>
                      <a:lnTo>
                        <a:pt x="983" y="883"/>
                      </a:lnTo>
                      <a:lnTo>
                        <a:pt x="1046" y="854"/>
                      </a:lnTo>
                      <a:lnTo>
                        <a:pt x="1065" y="898"/>
                      </a:lnTo>
                      <a:lnTo>
                        <a:pt x="1085" y="958"/>
                      </a:lnTo>
                      <a:lnTo>
                        <a:pt x="1111" y="947"/>
                      </a:lnTo>
                      <a:lnTo>
                        <a:pt x="1130" y="1013"/>
                      </a:lnTo>
                      <a:lnTo>
                        <a:pt x="1134" y="1051"/>
                      </a:lnTo>
                      <a:lnTo>
                        <a:pt x="1169" y="1114"/>
                      </a:lnTo>
                      <a:lnTo>
                        <a:pt x="1199" y="1136"/>
                      </a:lnTo>
                      <a:lnTo>
                        <a:pt x="1180" y="1086"/>
                      </a:lnTo>
                      <a:lnTo>
                        <a:pt x="1154" y="1042"/>
                      </a:lnTo>
                      <a:lnTo>
                        <a:pt x="1165" y="1002"/>
                      </a:lnTo>
                      <a:lnTo>
                        <a:pt x="1196" y="1037"/>
                      </a:lnTo>
                      <a:lnTo>
                        <a:pt x="1234" y="1031"/>
                      </a:lnTo>
                      <a:lnTo>
                        <a:pt x="1260" y="988"/>
                      </a:lnTo>
                      <a:lnTo>
                        <a:pt x="1245" y="947"/>
                      </a:lnTo>
                      <a:lnTo>
                        <a:pt x="1199" y="908"/>
                      </a:lnTo>
                      <a:lnTo>
                        <a:pt x="1226" y="879"/>
                      </a:lnTo>
                      <a:lnTo>
                        <a:pt x="1250" y="879"/>
                      </a:lnTo>
                      <a:lnTo>
                        <a:pt x="1257" y="903"/>
                      </a:lnTo>
                      <a:lnTo>
                        <a:pt x="1295" y="874"/>
                      </a:lnTo>
                      <a:lnTo>
                        <a:pt x="1337" y="859"/>
                      </a:lnTo>
                      <a:lnTo>
                        <a:pt x="1345" y="835"/>
                      </a:lnTo>
                      <a:lnTo>
                        <a:pt x="1373" y="784"/>
                      </a:lnTo>
                      <a:lnTo>
                        <a:pt x="1376" y="750"/>
                      </a:lnTo>
                      <a:lnTo>
                        <a:pt x="1337" y="701"/>
                      </a:lnTo>
                      <a:lnTo>
                        <a:pt x="1361" y="676"/>
                      </a:lnTo>
                      <a:lnTo>
                        <a:pt x="1322" y="662"/>
                      </a:lnTo>
                      <a:lnTo>
                        <a:pt x="1318" y="643"/>
                      </a:lnTo>
                      <a:lnTo>
                        <a:pt x="1342" y="621"/>
                      </a:lnTo>
                      <a:lnTo>
                        <a:pt x="1350" y="647"/>
                      </a:lnTo>
                      <a:lnTo>
                        <a:pt x="1388" y="643"/>
                      </a:lnTo>
                      <a:lnTo>
                        <a:pt x="1383" y="667"/>
                      </a:lnTo>
                      <a:lnTo>
                        <a:pt x="1392" y="711"/>
                      </a:lnTo>
                      <a:lnTo>
                        <a:pt x="1426" y="711"/>
                      </a:lnTo>
                      <a:lnTo>
                        <a:pt x="1434" y="676"/>
                      </a:lnTo>
                      <a:lnTo>
                        <a:pt x="1410" y="647"/>
                      </a:lnTo>
                      <a:lnTo>
                        <a:pt x="1442" y="591"/>
                      </a:lnTo>
                      <a:lnTo>
                        <a:pt x="1437" y="567"/>
                      </a:lnTo>
                      <a:lnTo>
                        <a:pt x="1495" y="539"/>
                      </a:lnTo>
                      <a:lnTo>
                        <a:pt x="1507" y="469"/>
                      </a:lnTo>
                      <a:lnTo>
                        <a:pt x="1492" y="419"/>
                      </a:lnTo>
                      <a:lnTo>
                        <a:pt x="1449" y="410"/>
                      </a:lnTo>
                      <a:lnTo>
                        <a:pt x="1418" y="395"/>
                      </a:lnTo>
                      <a:lnTo>
                        <a:pt x="1442" y="350"/>
                      </a:lnTo>
                      <a:lnTo>
                        <a:pt x="1492" y="326"/>
                      </a:lnTo>
                      <a:lnTo>
                        <a:pt x="1548" y="340"/>
                      </a:lnTo>
                      <a:lnTo>
                        <a:pt x="1591" y="346"/>
                      </a:lnTo>
                      <a:lnTo>
                        <a:pt x="1591" y="317"/>
                      </a:lnTo>
                      <a:lnTo>
                        <a:pt x="1622" y="296"/>
                      </a:lnTo>
                      <a:lnTo>
                        <a:pt x="1668" y="296"/>
                      </a:lnTo>
                      <a:lnTo>
                        <a:pt x="1642" y="336"/>
                      </a:lnTo>
                      <a:lnTo>
                        <a:pt x="1613" y="364"/>
                      </a:lnTo>
                      <a:lnTo>
                        <a:pt x="1631" y="449"/>
                      </a:lnTo>
                      <a:lnTo>
                        <a:pt x="1654" y="473"/>
                      </a:lnTo>
                      <a:lnTo>
                        <a:pt x="1691" y="410"/>
                      </a:lnTo>
                      <a:lnTo>
                        <a:pt x="1695" y="356"/>
                      </a:lnTo>
                      <a:lnTo>
                        <a:pt x="1668" y="350"/>
                      </a:lnTo>
                      <a:lnTo>
                        <a:pt x="1673" y="326"/>
                      </a:lnTo>
                      <a:lnTo>
                        <a:pt x="1710" y="331"/>
                      </a:lnTo>
                      <a:lnTo>
                        <a:pt x="1768" y="301"/>
                      </a:lnTo>
                      <a:lnTo>
                        <a:pt x="1818" y="293"/>
                      </a:lnTo>
                      <a:lnTo>
                        <a:pt x="1818" y="265"/>
                      </a:lnTo>
                      <a:lnTo>
                        <a:pt x="1792" y="241"/>
                      </a:lnTo>
                      <a:lnTo>
                        <a:pt x="1821" y="241"/>
                      </a:lnTo>
                      <a:lnTo>
                        <a:pt x="1860" y="257"/>
                      </a:lnTo>
                      <a:lnTo>
                        <a:pt x="1890" y="257"/>
                      </a:lnTo>
                      <a:lnTo>
                        <a:pt x="1871" y="241"/>
                      </a:lnTo>
                      <a:lnTo>
                        <a:pt x="1895" y="232"/>
                      </a:lnTo>
                      <a:lnTo>
                        <a:pt x="1895" y="217"/>
                      </a:lnTo>
                      <a:lnTo>
                        <a:pt x="1895" y="217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408120" y="5229360"/>
                  <a:ext cx="22320" cy="62640"/>
                </a:xfrm>
                <a:custGeom>
                  <a:avLst/>
                  <a:gdLst/>
                  <a:ahLst/>
                  <a:rect l="l" t="t" r="r" b="b"/>
                  <a:pathLst>
                    <a:path w="60" h="159">
                      <a:moveTo>
                        <a:pt x="0" y="0"/>
                      </a:moveTo>
                      <a:lnTo>
                        <a:pt x="10" y="60"/>
                      </a:lnTo>
                      <a:lnTo>
                        <a:pt x="15" y="159"/>
                      </a:lnTo>
                      <a:lnTo>
                        <a:pt x="42" y="134"/>
                      </a:lnTo>
                      <a:lnTo>
                        <a:pt x="23" y="89"/>
                      </a:lnTo>
                      <a:lnTo>
                        <a:pt x="34" y="74"/>
                      </a:lnTo>
                      <a:lnTo>
                        <a:pt x="49" y="95"/>
                      </a:lnTo>
                      <a:lnTo>
                        <a:pt x="60" y="85"/>
                      </a:lnTo>
                      <a:lnTo>
                        <a:pt x="37" y="66"/>
                      </a:lnTo>
                      <a:lnTo>
                        <a:pt x="27" y="55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380400" y="5298840"/>
                  <a:ext cx="43560" cy="42840"/>
                </a:xfrm>
                <a:custGeom>
                  <a:avLst/>
                  <a:gdLst/>
                  <a:ahLst/>
                  <a:rect l="l" t="t" r="r" b="b"/>
                  <a:pathLst>
                    <a:path w="116" h="108">
                      <a:moveTo>
                        <a:pt x="80" y="0"/>
                      </a:moveTo>
                      <a:lnTo>
                        <a:pt x="84" y="40"/>
                      </a:lnTo>
                      <a:lnTo>
                        <a:pt x="58" y="73"/>
                      </a:lnTo>
                      <a:lnTo>
                        <a:pt x="12" y="84"/>
                      </a:lnTo>
                      <a:lnTo>
                        <a:pt x="0" y="98"/>
                      </a:lnTo>
                      <a:lnTo>
                        <a:pt x="58" y="93"/>
                      </a:lnTo>
                      <a:lnTo>
                        <a:pt x="70" y="108"/>
                      </a:lnTo>
                      <a:lnTo>
                        <a:pt x="116" y="68"/>
                      </a:lnTo>
                      <a:lnTo>
                        <a:pt x="108" y="40"/>
                      </a:lnTo>
                      <a:lnTo>
                        <a:pt x="92" y="0"/>
                      </a:lnTo>
                      <a:lnTo>
                        <a:pt x="80" y="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419640" y="5286960"/>
                  <a:ext cx="16560" cy="1728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0" y="11"/>
                      </a:moveTo>
                      <a:lnTo>
                        <a:pt x="35" y="0"/>
                      </a:lnTo>
                      <a:lnTo>
                        <a:pt x="46" y="11"/>
                      </a:lnTo>
                      <a:lnTo>
                        <a:pt x="16" y="46"/>
                      </a:lnTo>
                      <a:lnTo>
                        <a:pt x="4" y="24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350880" y="5383080"/>
                  <a:ext cx="11880" cy="19800"/>
                </a:xfrm>
                <a:custGeom>
                  <a:avLst/>
                  <a:gdLst/>
                  <a:ahLst/>
                  <a:rect l="l" t="t" r="r" b="b"/>
                  <a:pathLst>
                    <a:path w="31" h="50">
                      <a:moveTo>
                        <a:pt x="31" y="0"/>
                      </a:moveTo>
                      <a:lnTo>
                        <a:pt x="7" y="0"/>
                      </a:lnTo>
                      <a:lnTo>
                        <a:pt x="0" y="34"/>
                      </a:lnTo>
                      <a:lnTo>
                        <a:pt x="3" y="50"/>
                      </a:lnTo>
                      <a:lnTo>
                        <a:pt x="22" y="28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348720" y="5416560"/>
                  <a:ext cx="18720" cy="38880"/>
                </a:xfrm>
                <a:custGeom>
                  <a:avLst/>
                  <a:gdLst/>
                  <a:ahLst/>
                  <a:rect l="l" t="t" r="r" b="b"/>
                  <a:pathLst>
                    <a:path w="50" h="99">
                      <a:moveTo>
                        <a:pt x="3" y="0"/>
                      </a:moveTo>
                      <a:lnTo>
                        <a:pt x="22" y="10"/>
                      </a:lnTo>
                      <a:lnTo>
                        <a:pt x="22" y="44"/>
                      </a:lnTo>
                      <a:lnTo>
                        <a:pt x="50" y="70"/>
                      </a:lnTo>
                      <a:lnTo>
                        <a:pt x="45" y="99"/>
                      </a:lnTo>
                      <a:lnTo>
                        <a:pt x="29" y="76"/>
                      </a:lnTo>
                      <a:lnTo>
                        <a:pt x="0" y="55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306240" y="5471640"/>
                  <a:ext cx="39240" cy="52200"/>
                </a:xfrm>
                <a:custGeom>
                  <a:avLst/>
                  <a:gdLst/>
                  <a:ahLst/>
                  <a:rect l="l" t="t" r="r" b="b"/>
                  <a:pathLst>
                    <a:path w="104" h="132">
                      <a:moveTo>
                        <a:pt x="96" y="14"/>
                      </a:moveTo>
                      <a:lnTo>
                        <a:pt x="85" y="0"/>
                      </a:lnTo>
                      <a:lnTo>
                        <a:pt x="50" y="49"/>
                      </a:lnTo>
                      <a:lnTo>
                        <a:pt x="4" y="63"/>
                      </a:lnTo>
                      <a:lnTo>
                        <a:pt x="0" y="88"/>
                      </a:lnTo>
                      <a:lnTo>
                        <a:pt x="28" y="128"/>
                      </a:lnTo>
                      <a:lnTo>
                        <a:pt x="69" y="132"/>
                      </a:lnTo>
                      <a:lnTo>
                        <a:pt x="85" y="99"/>
                      </a:lnTo>
                      <a:lnTo>
                        <a:pt x="104" y="83"/>
                      </a:lnTo>
                      <a:lnTo>
                        <a:pt x="96" y="54"/>
                      </a:lnTo>
                      <a:lnTo>
                        <a:pt x="104" y="33"/>
                      </a:lnTo>
                      <a:lnTo>
                        <a:pt x="96" y="14"/>
                      </a:lnTo>
                      <a:lnTo>
                        <a:pt x="96" y="14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345840" y="5496840"/>
                  <a:ext cx="27000" cy="42840"/>
                </a:xfrm>
                <a:custGeom>
                  <a:avLst/>
                  <a:gdLst/>
                  <a:ahLst/>
                  <a:rect l="l" t="t" r="r" b="b"/>
                  <a:pathLst>
                    <a:path w="73" h="109">
                      <a:moveTo>
                        <a:pt x="73" y="0"/>
                      </a:moveTo>
                      <a:lnTo>
                        <a:pt x="59" y="10"/>
                      </a:lnTo>
                      <a:lnTo>
                        <a:pt x="19" y="14"/>
                      </a:lnTo>
                      <a:lnTo>
                        <a:pt x="0" y="44"/>
                      </a:lnTo>
                      <a:lnTo>
                        <a:pt x="0" y="75"/>
                      </a:lnTo>
                      <a:lnTo>
                        <a:pt x="0" y="109"/>
                      </a:lnTo>
                      <a:lnTo>
                        <a:pt x="28" y="69"/>
                      </a:lnTo>
                      <a:lnTo>
                        <a:pt x="43" y="85"/>
                      </a:lnTo>
                      <a:lnTo>
                        <a:pt x="50" y="65"/>
                      </a:lnTo>
                      <a:lnTo>
                        <a:pt x="38" y="50"/>
                      </a:lnTo>
                      <a:lnTo>
                        <a:pt x="50" y="30"/>
                      </a:lnTo>
                      <a:lnTo>
                        <a:pt x="31" y="25"/>
                      </a:lnTo>
                      <a:lnTo>
                        <a:pt x="65" y="20"/>
                      </a:lnTo>
                      <a:lnTo>
                        <a:pt x="73" y="0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357000" y="5457960"/>
                  <a:ext cx="23400" cy="23040"/>
                </a:xfrm>
                <a:custGeom>
                  <a:avLst/>
                  <a:gdLst/>
                  <a:ahLst/>
                  <a:rect l="l" t="t" r="r" b="b"/>
                  <a:pathLst>
                    <a:path w="61" h="59">
                      <a:moveTo>
                        <a:pt x="42" y="0"/>
                      </a:moveTo>
                      <a:lnTo>
                        <a:pt x="30" y="19"/>
                      </a:lnTo>
                      <a:lnTo>
                        <a:pt x="7" y="24"/>
                      </a:lnTo>
                      <a:lnTo>
                        <a:pt x="0" y="44"/>
                      </a:lnTo>
                      <a:lnTo>
                        <a:pt x="23" y="35"/>
                      </a:lnTo>
                      <a:lnTo>
                        <a:pt x="28" y="59"/>
                      </a:lnTo>
                      <a:lnTo>
                        <a:pt x="61" y="35"/>
                      </a:lnTo>
                      <a:lnTo>
                        <a:pt x="47" y="24"/>
                      </a:lnTo>
                      <a:lnTo>
                        <a:pt x="42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245400" y="5475600"/>
                  <a:ext cx="50400" cy="60120"/>
                </a:xfrm>
                <a:custGeom>
                  <a:avLst/>
                  <a:gdLst/>
                  <a:ahLst/>
                  <a:rect l="l" t="t" r="r" b="b"/>
                  <a:pathLst>
                    <a:path w="135" h="153">
                      <a:moveTo>
                        <a:pt x="0" y="0"/>
                      </a:moveTo>
                      <a:lnTo>
                        <a:pt x="31" y="15"/>
                      </a:lnTo>
                      <a:lnTo>
                        <a:pt x="58" y="60"/>
                      </a:lnTo>
                      <a:lnTo>
                        <a:pt x="100" y="94"/>
                      </a:lnTo>
                      <a:lnTo>
                        <a:pt x="135" y="114"/>
                      </a:lnTo>
                      <a:lnTo>
                        <a:pt x="123" y="153"/>
                      </a:lnTo>
                      <a:lnTo>
                        <a:pt x="81" y="139"/>
                      </a:lnTo>
                      <a:lnTo>
                        <a:pt x="46" y="74"/>
                      </a:lnTo>
                      <a:lnTo>
                        <a:pt x="20" y="3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300480" y="5536080"/>
                  <a:ext cx="75240" cy="19800"/>
                </a:xfrm>
                <a:custGeom>
                  <a:avLst/>
                  <a:gdLst/>
                  <a:ahLst/>
                  <a:rect l="l" t="t" r="r" b="b"/>
                  <a:pathLst>
                    <a:path w="200" h="49">
                      <a:moveTo>
                        <a:pt x="0" y="0"/>
                      </a:moveTo>
                      <a:lnTo>
                        <a:pt x="51" y="21"/>
                      </a:lnTo>
                      <a:lnTo>
                        <a:pt x="135" y="40"/>
                      </a:lnTo>
                      <a:lnTo>
                        <a:pt x="200" y="25"/>
                      </a:lnTo>
                      <a:lnTo>
                        <a:pt x="184" y="46"/>
                      </a:lnTo>
                      <a:lnTo>
                        <a:pt x="84" y="49"/>
                      </a:lnTo>
                      <a:lnTo>
                        <a:pt x="13" y="25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387240" y="5510520"/>
                  <a:ext cx="130320" cy="54720"/>
                </a:xfrm>
                <a:custGeom>
                  <a:avLst/>
                  <a:gdLst/>
                  <a:ahLst/>
                  <a:rect l="l" t="t" r="r" b="b"/>
                  <a:pathLst>
                    <a:path w="346" h="136">
                      <a:moveTo>
                        <a:pt x="61" y="24"/>
                      </a:move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51" y="29"/>
                      </a:lnTo>
                      <a:lnTo>
                        <a:pt x="19" y="33"/>
                      </a:lnTo>
                      <a:lnTo>
                        <a:pt x="24" y="49"/>
                      </a:lnTo>
                      <a:lnTo>
                        <a:pt x="89" y="63"/>
                      </a:lnTo>
                      <a:lnTo>
                        <a:pt x="78" y="97"/>
                      </a:lnTo>
                      <a:lnTo>
                        <a:pt x="131" y="109"/>
                      </a:lnTo>
                      <a:lnTo>
                        <a:pt x="151" y="97"/>
                      </a:lnTo>
                      <a:lnTo>
                        <a:pt x="189" y="133"/>
                      </a:lnTo>
                      <a:lnTo>
                        <a:pt x="251" y="133"/>
                      </a:lnTo>
                      <a:lnTo>
                        <a:pt x="262" y="109"/>
                      </a:lnTo>
                      <a:lnTo>
                        <a:pt x="336" y="136"/>
                      </a:lnTo>
                      <a:lnTo>
                        <a:pt x="346" y="112"/>
                      </a:lnTo>
                      <a:lnTo>
                        <a:pt x="290" y="103"/>
                      </a:lnTo>
                      <a:lnTo>
                        <a:pt x="243" y="54"/>
                      </a:lnTo>
                      <a:lnTo>
                        <a:pt x="201" y="69"/>
                      </a:lnTo>
                      <a:lnTo>
                        <a:pt x="131" y="49"/>
                      </a:lnTo>
                      <a:lnTo>
                        <a:pt x="85" y="14"/>
                      </a:lnTo>
                      <a:lnTo>
                        <a:pt x="61" y="24"/>
                      </a:lnTo>
                      <a:lnTo>
                        <a:pt x="61" y="24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498120" y="5103720"/>
                  <a:ext cx="19440" cy="10440"/>
                </a:xfrm>
                <a:custGeom>
                  <a:avLst/>
                  <a:gdLst/>
                  <a:ahLst/>
                  <a:rect l="l" t="t" r="r" b="b"/>
                  <a:pathLst>
                    <a:path w="53" h="25">
                      <a:moveTo>
                        <a:pt x="11" y="0"/>
                      </a:moveTo>
                      <a:lnTo>
                        <a:pt x="0" y="10"/>
                      </a:lnTo>
                      <a:lnTo>
                        <a:pt x="11" y="25"/>
                      </a:lnTo>
                      <a:lnTo>
                        <a:pt x="53" y="10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345840" y="5064840"/>
                  <a:ext cx="53280" cy="14400"/>
                </a:xfrm>
                <a:custGeom>
                  <a:avLst/>
                  <a:gdLst/>
                  <a:ahLst/>
                  <a:rect l="l" t="t" r="r" b="b"/>
                  <a:pathLst>
                    <a:path w="142" h="34">
                      <a:moveTo>
                        <a:pt x="142" y="34"/>
                      </a:moveTo>
                      <a:lnTo>
                        <a:pt x="135" y="20"/>
                      </a:lnTo>
                      <a:lnTo>
                        <a:pt x="50" y="4"/>
                      </a:lnTo>
                      <a:lnTo>
                        <a:pt x="36" y="14"/>
                      </a:lnTo>
                      <a:lnTo>
                        <a:pt x="5" y="0"/>
                      </a:lnTo>
                      <a:lnTo>
                        <a:pt x="0" y="23"/>
                      </a:lnTo>
                      <a:lnTo>
                        <a:pt x="54" y="34"/>
                      </a:lnTo>
                      <a:lnTo>
                        <a:pt x="78" y="23"/>
                      </a:lnTo>
                      <a:lnTo>
                        <a:pt x="142" y="34"/>
                      </a:lnTo>
                      <a:lnTo>
                        <a:pt x="142" y="34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339360" y="5443560"/>
                  <a:ext cx="9000" cy="21240"/>
                </a:xfrm>
                <a:custGeom>
                  <a:avLst/>
                  <a:gdLst/>
                  <a:ahLst/>
                  <a:rect l="l" t="t" r="r" b="b"/>
                  <a:pathLst>
                    <a:path w="24" h="53">
                      <a:moveTo>
                        <a:pt x="15" y="0"/>
                      </a:moveTo>
                      <a:lnTo>
                        <a:pt x="0" y="53"/>
                      </a:lnTo>
                      <a:lnTo>
                        <a:pt x="24" y="14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244680" y="5443560"/>
                  <a:ext cx="3600" cy="23760"/>
                </a:xfrm>
                <a:custGeom>
                  <a:avLst/>
                  <a:gdLst/>
                  <a:ahLst/>
                  <a:rect l="l" t="t" r="r" b="b"/>
                  <a:pathLst>
                    <a:path w="11" h="58">
                      <a:moveTo>
                        <a:pt x="0" y="0"/>
                      </a:moveTo>
                      <a:lnTo>
                        <a:pt x="11" y="9"/>
                      </a:lnTo>
                      <a:lnTo>
                        <a:pt x="0" y="58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438360" y="5253480"/>
                  <a:ext cx="20880" cy="27000"/>
                </a:xfrm>
                <a:custGeom>
                  <a:avLst/>
                  <a:gdLst/>
                  <a:ahLst/>
                  <a:rect l="l" t="t" r="r" b="b"/>
                  <a:pathLst>
                    <a:path w="58" h="69">
                      <a:moveTo>
                        <a:pt x="58" y="0"/>
                      </a:moveTo>
                      <a:lnTo>
                        <a:pt x="47" y="29"/>
                      </a:lnTo>
                      <a:lnTo>
                        <a:pt x="0" y="69"/>
                      </a:lnTo>
                      <a:lnTo>
                        <a:pt x="54" y="29"/>
                      </a:lnTo>
                      <a:lnTo>
                        <a:pt x="58" y="0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381840" y="5341680"/>
                  <a:ext cx="12600" cy="17280"/>
                </a:xfrm>
                <a:custGeom>
                  <a:avLst/>
                  <a:gdLst/>
                  <a:ahLst/>
                  <a:rect l="l" t="t" r="r" b="b"/>
                  <a:pathLst>
                    <a:path w="33" h="44">
                      <a:moveTo>
                        <a:pt x="0" y="6"/>
                      </a:moveTo>
                      <a:lnTo>
                        <a:pt x="33" y="0"/>
                      </a:lnTo>
                      <a:lnTo>
                        <a:pt x="33" y="44"/>
                      </a:lnTo>
                      <a:lnTo>
                        <a:pt x="11" y="39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368160" y="5369400"/>
                  <a:ext cx="24120" cy="15120"/>
                </a:xfrm>
                <a:custGeom>
                  <a:avLst/>
                  <a:gdLst/>
                  <a:ahLst/>
                  <a:rect l="l" t="t" r="r" b="b"/>
                  <a:pathLst>
                    <a:path w="63" h="39">
                      <a:moveTo>
                        <a:pt x="63" y="0"/>
                      </a:moveTo>
                      <a:lnTo>
                        <a:pt x="43" y="25"/>
                      </a:lnTo>
                      <a:lnTo>
                        <a:pt x="0" y="39"/>
                      </a:lnTo>
                      <a:lnTo>
                        <a:pt x="40" y="19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485880" y="551772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42" h="31">
                      <a:moveTo>
                        <a:pt x="0" y="31"/>
                      </a:moveTo>
                      <a:lnTo>
                        <a:pt x="28" y="26"/>
                      </a:lnTo>
                      <a:lnTo>
                        <a:pt x="42" y="0"/>
                      </a:lnTo>
                      <a:lnTo>
                        <a:pt x="35" y="31"/>
                      </a:lnTo>
                      <a:lnTo>
                        <a:pt x="0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07840" y="5522400"/>
                  <a:ext cx="40680" cy="21240"/>
                </a:xfrm>
                <a:custGeom>
                  <a:avLst/>
                  <a:gdLst/>
                  <a:ahLst/>
                  <a:rect l="l" t="t" r="r" b="b"/>
                  <a:pathLst>
                    <a:path w="109" h="55">
                      <a:moveTo>
                        <a:pt x="0" y="0"/>
                      </a:moveTo>
                      <a:lnTo>
                        <a:pt x="73" y="10"/>
                      </a:lnTo>
                      <a:lnTo>
                        <a:pt x="109" y="55"/>
                      </a:lnTo>
                      <a:lnTo>
                        <a:pt x="69" y="2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310920" y="5560560"/>
                  <a:ext cx="166320" cy="148680"/>
                </a:xfrm>
                <a:custGeom>
                  <a:avLst/>
                  <a:gdLst/>
                  <a:ahLst/>
                  <a:rect l="l" t="t" r="r" b="b"/>
                  <a:pathLst>
                    <a:path w="442" h="374">
                      <a:moveTo>
                        <a:pt x="331" y="0"/>
                      </a:moveTo>
                      <a:lnTo>
                        <a:pt x="314" y="40"/>
                      </a:lnTo>
                      <a:lnTo>
                        <a:pt x="314" y="79"/>
                      </a:lnTo>
                      <a:lnTo>
                        <a:pt x="276" y="68"/>
                      </a:lnTo>
                      <a:lnTo>
                        <a:pt x="264" y="16"/>
                      </a:lnTo>
                      <a:lnTo>
                        <a:pt x="216" y="0"/>
                      </a:lnTo>
                      <a:lnTo>
                        <a:pt x="189" y="16"/>
                      </a:lnTo>
                      <a:lnTo>
                        <a:pt x="177" y="45"/>
                      </a:lnTo>
                      <a:lnTo>
                        <a:pt x="153" y="29"/>
                      </a:lnTo>
                      <a:lnTo>
                        <a:pt x="128" y="65"/>
                      </a:lnTo>
                      <a:lnTo>
                        <a:pt x="97" y="73"/>
                      </a:lnTo>
                      <a:lnTo>
                        <a:pt x="92" y="104"/>
                      </a:lnTo>
                      <a:lnTo>
                        <a:pt x="11" y="133"/>
                      </a:lnTo>
                      <a:lnTo>
                        <a:pt x="0" y="202"/>
                      </a:lnTo>
                      <a:lnTo>
                        <a:pt x="24" y="267"/>
                      </a:lnTo>
                      <a:lnTo>
                        <a:pt x="0" y="286"/>
                      </a:lnTo>
                      <a:lnTo>
                        <a:pt x="19" y="306"/>
                      </a:lnTo>
                      <a:lnTo>
                        <a:pt x="81" y="312"/>
                      </a:lnTo>
                      <a:lnTo>
                        <a:pt x="139" y="276"/>
                      </a:lnTo>
                      <a:lnTo>
                        <a:pt x="184" y="267"/>
                      </a:lnTo>
                      <a:lnTo>
                        <a:pt x="227" y="316"/>
                      </a:lnTo>
                      <a:lnTo>
                        <a:pt x="245" y="291"/>
                      </a:lnTo>
                      <a:lnTo>
                        <a:pt x="258" y="346"/>
                      </a:lnTo>
                      <a:lnTo>
                        <a:pt x="285" y="360"/>
                      </a:lnTo>
                      <a:lnTo>
                        <a:pt x="318" y="350"/>
                      </a:lnTo>
                      <a:lnTo>
                        <a:pt x="347" y="374"/>
                      </a:lnTo>
                      <a:lnTo>
                        <a:pt x="396" y="321"/>
                      </a:lnTo>
                      <a:lnTo>
                        <a:pt x="420" y="252"/>
                      </a:lnTo>
                      <a:lnTo>
                        <a:pt x="442" y="242"/>
                      </a:lnTo>
                      <a:lnTo>
                        <a:pt x="432" y="193"/>
                      </a:lnTo>
                      <a:lnTo>
                        <a:pt x="404" y="153"/>
                      </a:lnTo>
                      <a:lnTo>
                        <a:pt x="385" y="108"/>
                      </a:lnTo>
                      <a:lnTo>
                        <a:pt x="356" y="98"/>
                      </a:lnTo>
                      <a:lnTo>
                        <a:pt x="342" y="29"/>
                      </a:lnTo>
                      <a:lnTo>
                        <a:pt x="331" y="0"/>
                      </a:lnTo>
                      <a:lnTo>
                        <a:pt x="331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418200" y="5714280"/>
                  <a:ext cx="20880" cy="20520"/>
                </a:xfrm>
                <a:custGeom>
                  <a:avLst/>
                  <a:gdLst/>
                  <a:ahLst/>
                  <a:rect l="l" t="t" r="r" b="b"/>
                  <a:pathLst>
                    <a:path w="57" h="54">
                      <a:moveTo>
                        <a:pt x="7" y="0"/>
                      </a:moveTo>
                      <a:lnTo>
                        <a:pt x="29" y="8"/>
                      </a:lnTo>
                      <a:lnTo>
                        <a:pt x="57" y="5"/>
                      </a:lnTo>
                      <a:lnTo>
                        <a:pt x="53" y="35"/>
                      </a:lnTo>
                      <a:lnTo>
                        <a:pt x="10" y="54"/>
                      </a:lnTo>
                      <a:lnTo>
                        <a:pt x="0" y="2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536280" y="5688000"/>
                  <a:ext cx="24840" cy="34200"/>
                </a:xfrm>
                <a:custGeom>
                  <a:avLst/>
                  <a:gdLst/>
                  <a:ahLst/>
                  <a:rect l="l" t="t" r="r" b="b"/>
                  <a:pathLst>
                    <a:path w="67" h="84">
                      <a:moveTo>
                        <a:pt x="5" y="0"/>
                      </a:moveTo>
                      <a:lnTo>
                        <a:pt x="5" y="20"/>
                      </a:lnTo>
                      <a:lnTo>
                        <a:pt x="15" y="44"/>
                      </a:lnTo>
                      <a:lnTo>
                        <a:pt x="0" y="53"/>
                      </a:lnTo>
                      <a:lnTo>
                        <a:pt x="13" y="84"/>
                      </a:lnTo>
                      <a:lnTo>
                        <a:pt x="43" y="69"/>
                      </a:lnTo>
                      <a:lnTo>
                        <a:pt x="67" y="25"/>
                      </a:lnTo>
                      <a:lnTo>
                        <a:pt x="43" y="29"/>
                      </a:lnTo>
                      <a:lnTo>
                        <a:pt x="24" y="9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500280" y="5720040"/>
                  <a:ext cx="36000" cy="38880"/>
                </a:xfrm>
                <a:custGeom>
                  <a:avLst/>
                  <a:gdLst/>
                  <a:ahLst/>
                  <a:rect l="l" t="t" r="r" b="b"/>
                  <a:pathLst>
                    <a:path w="97" h="99">
                      <a:moveTo>
                        <a:pt x="87" y="0"/>
                      </a:moveTo>
                      <a:lnTo>
                        <a:pt x="97" y="16"/>
                      </a:lnTo>
                      <a:lnTo>
                        <a:pt x="87" y="45"/>
                      </a:lnTo>
                      <a:lnTo>
                        <a:pt x="55" y="60"/>
                      </a:lnTo>
                      <a:lnTo>
                        <a:pt x="18" y="99"/>
                      </a:lnTo>
                      <a:lnTo>
                        <a:pt x="0" y="84"/>
                      </a:lnTo>
                      <a:lnTo>
                        <a:pt x="47" y="40"/>
                      </a:lnTo>
                      <a:lnTo>
                        <a:pt x="74" y="21"/>
                      </a:lnTo>
                      <a:lnTo>
                        <a:pt x="87" y="0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516120" y="5611680"/>
                  <a:ext cx="15120" cy="1332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0" y="0"/>
                      </a:moveTo>
                      <a:lnTo>
                        <a:pt x="31" y="35"/>
                      </a:lnTo>
                      <a:lnTo>
                        <a:pt x="40" y="2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565080" y="5592600"/>
                  <a:ext cx="22320" cy="17280"/>
                </a:xfrm>
                <a:custGeom>
                  <a:avLst/>
                  <a:gdLst/>
                  <a:ahLst/>
                  <a:rect l="l" t="t" r="r" b="b"/>
                  <a:pathLst>
                    <a:path w="60" h="45">
                      <a:moveTo>
                        <a:pt x="60" y="0"/>
                      </a:moveTo>
                      <a:lnTo>
                        <a:pt x="18" y="45"/>
                      </a:lnTo>
                      <a:lnTo>
                        <a:pt x="0" y="34"/>
                      </a:lnTo>
                      <a:lnTo>
                        <a:pt x="60" y="0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530520" y="5579640"/>
                  <a:ext cx="15840" cy="26280"/>
                </a:xfrm>
                <a:custGeom>
                  <a:avLst/>
                  <a:gdLst/>
                  <a:ahLst/>
                  <a:rect l="l" t="t" r="r" b="b"/>
                  <a:pathLst>
                    <a:path w="42" h="66">
                      <a:moveTo>
                        <a:pt x="0" y="0"/>
                      </a:moveTo>
                      <a:lnTo>
                        <a:pt x="24" y="11"/>
                      </a:lnTo>
                      <a:lnTo>
                        <a:pt x="42" y="66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175200" y="5016960"/>
                  <a:ext cx="52560" cy="34920"/>
                </a:xfrm>
                <a:custGeom>
                  <a:avLst/>
                  <a:gdLst/>
                  <a:ahLst/>
                  <a:rect l="l" t="t" r="r" b="b"/>
                  <a:pathLst>
                    <a:path w="141" h="88">
                      <a:moveTo>
                        <a:pt x="36" y="0"/>
                      </a:moveTo>
                      <a:lnTo>
                        <a:pt x="128" y="23"/>
                      </a:lnTo>
                      <a:lnTo>
                        <a:pt x="141" y="75"/>
                      </a:lnTo>
                      <a:lnTo>
                        <a:pt x="100" y="51"/>
                      </a:lnTo>
                      <a:lnTo>
                        <a:pt x="84" y="88"/>
                      </a:lnTo>
                      <a:lnTo>
                        <a:pt x="0" y="30"/>
                      </a:lnTo>
                      <a:lnTo>
                        <a:pt x="54" y="38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904840" y="5274000"/>
                  <a:ext cx="9720" cy="24480"/>
                </a:xfrm>
                <a:custGeom>
                  <a:avLst/>
                  <a:gdLst/>
                  <a:ahLst/>
                  <a:rect l="l" t="t" r="r" b="b"/>
                  <a:pathLst>
                    <a:path w="26" h="62">
                      <a:moveTo>
                        <a:pt x="10" y="0"/>
                      </a:moveTo>
                      <a:lnTo>
                        <a:pt x="19" y="6"/>
                      </a:lnTo>
                      <a:lnTo>
                        <a:pt x="26" y="24"/>
                      </a:lnTo>
                      <a:lnTo>
                        <a:pt x="19" y="29"/>
                      </a:lnTo>
                      <a:lnTo>
                        <a:pt x="25" y="42"/>
                      </a:lnTo>
                      <a:lnTo>
                        <a:pt x="17" y="62"/>
                      </a:lnTo>
                      <a:lnTo>
                        <a:pt x="1" y="62"/>
                      </a:lnTo>
                      <a:lnTo>
                        <a:pt x="0" y="38"/>
                      </a:lnTo>
                      <a:lnTo>
                        <a:pt x="10" y="30"/>
                      </a:lnTo>
                      <a:lnTo>
                        <a:pt x="8" y="1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882520" y="528984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20" y="0"/>
                      </a:moveTo>
                      <a:lnTo>
                        <a:pt x="1" y="3"/>
                      </a:lnTo>
                      <a:lnTo>
                        <a:pt x="0" y="13"/>
                      </a:lnTo>
                      <a:lnTo>
                        <a:pt x="8" y="15"/>
                      </a:lnTo>
                      <a:lnTo>
                        <a:pt x="9" y="7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967480" y="5310000"/>
                  <a:ext cx="11160" cy="6840"/>
                </a:xfrm>
                <a:custGeom>
                  <a:avLst/>
                  <a:gdLst/>
                  <a:ahLst/>
                  <a:rect l="l" t="t" r="r" b="b"/>
                  <a:pathLst>
                    <a:path w="29" h="17">
                      <a:moveTo>
                        <a:pt x="5" y="0"/>
                      </a:moveTo>
                      <a:lnTo>
                        <a:pt x="16" y="6"/>
                      </a:lnTo>
                      <a:lnTo>
                        <a:pt x="29" y="4"/>
                      </a:lnTo>
                      <a:lnTo>
                        <a:pt x="25" y="14"/>
                      </a:lnTo>
                      <a:lnTo>
                        <a:pt x="11" y="17"/>
                      </a:lnTo>
                      <a:lnTo>
                        <a:pt x="0" y="11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991960" y="5316840"/>
                  <a:ext cx="7920" cy="4680"/>
                </a:xfrm>
                <a:custGeom>
                  <a:avLst/>
                  <a:gdLst/>
                  <a:ahLst/>
                  <a:rect l="l" t="t" r="r" b="b"/>
                  <a:pathLst>
                    <a:path w="23" h="12">
                      <a:moveTo>
                        <a:pt x="23" y="0"/>
                      </a:moveTo>
                      <a:lnTo>
                        <a:pt x="12" y="3"/>
                      </a:lnTo>
                      <a:lnTo>
                        <a:pt x="0" y="6"/>
                      </a:lnTo>
                      <a:lnTo>
                        <a:pt x="4" y="12"/>
                      </a:lnTo>
                      <a:lnTo>
                        <a:pt x="20" y="12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847600" y="51847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13" h="21">
                      <a:moveTo>
                        <a:pt x="13" y="0"/>
                      </a:moveTo>
                      <a:lnTo>
                        <a:pt x="9" y="7"/>
                      </a:lnTo>
                      <a:lnTo>
                        <a:pt x="10" y="21"/>
                      </a:lnTo>
                      <a:lnTo>
                        <a:pt x="0" y="7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68840" y="5162760"/>
                  <a:ext cx="5760" cy="1008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14" y="0"/>
                      </a:moveTo>
                      <a:lnTo>
                        <a:pt x="11" y="9"/>
                      </a:lnTo>
                      <a:lnTo>
                        <a:pt x="0" y="16"/>
                      </a:lnTo>
                      <a:lnTo>
                        <a:pt x="8" y="25"/>
                      </a:lnTo>
                      <a:lnTo>
                        <a:pt x="15" y="15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570760" y="526284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30" h="3">
                      <a:moveTo>
                        <a:pt x="30" y="0"/>
                      </a:moveTo>
                      <a:lnTo>
                        <a:pt x="15" y="3"/>
                      </a:lnTo>
                      <a:lnTo>
                        <a:pt x="0" y="3"/>
                      </a:lnTo>
                      <a:lnTo>
                        <a:pt x="18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555640" y="5268600"/>
                  <a:ext cx="13320" cy="3960"/>
                </a:xfrm>
                <a:custGeom>
                  <a:avLst/>
                  <a:gdLst/>
                  <a:ahLst/>
                  <a:rect l="l" t="t" r="r" b="b"/>
                  <a:pathLst>
                    <a:path w="37" h="11">
                      <a:moveTo>
                        <a:pt x="37" y="1"/>
                      </a:moveTo>
                      <a:lnTo>
                        <a:pt x="14" y="2"/>
                      </a:lnTo>
                      <a:lnTo>
                        <a:pt x="0" y="11"/>
                      </a:lnTo>
                      <a:lnTo>
                        <a:pt x="12" y="0"/>
                      </a:lnTo>
                      <a:lnTo>
                        <a:pt x="37" y="1"/>
                      </a:lnTo>
                      <a:lnTo>
                        <a:pt x="37" y="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7" name=""/>
            <p:cNvGrpSpPr/>
            <p:nvPr/>
          </p:nvGrpSpPr>
          <p:grpSpPr>
            <a:xfrm>
              <a:off x="2760840" y="5060520"/>
              <a:ext cx="279360" cy="258840"/>
              <a:chOff x="2760840" y="5060520"/>
              <a:chExt cx="279360" cy="258840"/>
            </a:xfrm>
          </p:grpSpPr>
          <p:sp>
            <p:nvSpPr>
              <p:cNvPr id="348" name=""/>
              <p:cNvSpPr/>
              <p:nvPr/>
            </p:nvSpPr>
            <p:spPr>
              <a:xfrm>
                <a:off x="2837160" y="5131080"/>
                <a:ext cx="125640" cy="116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859120" y="5151960"/>
                <a:ext cx="82800" cy="76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60840" y="5189760"/>
                <a:ext cx="2793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2900520" y="5060520"/>
                <a:ext cx="0" cy="25884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276720" y="5516640"/>
              <a:ext cx="239760" cy="231840"/>
              <a:chOff x="3276720" y="5516640"/>
              <a:chExt cx="239760" cy="231840"/>
            </a:xfrm>
          </p:grpSpPr>
          <p:sp>
            <p:nvSpPr>
              <p:cNvPr id="353" name=""/>
              <p:cNvSpPr/>
              <p:nvPr/>
            </p:nvSpPr>
            <p:spPr>
              <a:xfrm>
                <a:off x="3342240" y="5579640"/>
                <a:ext cx="107640" cy="104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360960" y="5598000"/>
                <a:ext cx="71280" cy="68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76720" y="5631840"/>
                <a:ext cx="2397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3396600" y="5516640"/>
                <a:ext cx="0" cy="23184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006720" y="5060520"/>
              <a:ext cx="171360" cy="165240"/>
              <a:chOff x="3006720" y="5060520"/>
              <a:chExt cx="171360" cy="165240"/>
            </a:xfrm>
          </p:grpSpPr>
          <p:sp>
            <p:nvSpPr>
              <p:cNvPr id="358" name=""/>
              <p:cNvSpPr/>
              <p:nvPr/>
            </p:nvSpPr>
            <p:spPr>
              <a:xfrm>
                <a:off x="3053520" y="5105880"/>
                <a:ext cx="77040" cy="74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066840" y="5118840"/>
                <a:ext cx="50760" cy="48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006720" y="5142960"/>
                <a:ext cx="1713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3092400" y="5060520"/>
                <a:ext cx="0" cy="16524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2" name=""/>
          <p:cNvSpPr/>
          <p:nvPr/>
        </p:nvSpPr>
        <p:spPr>
          <a:xfrm>
            <a:off x="168120" y="2433600"/>
            <a:ext cx="34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87800" y="5632560"/>
            <a:ext cx="4897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85360" y="5807160"/>
            <a:ext cx="616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Consum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Posit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093080" y="154080"/>
            <a:ext cx="1881000" cy="876240"/>
            <a:chOff x="7093080" y="154080"/>
            <a:chExt cx="1881000" cy="876240"/>
          </a:xfrm>
        </p:grpSpPr>
        <p:grpSp>
          <p:nvGrpSpPr>
            <p:cNvPr id="366" name=""/>
            <p:cNvGrpSpPr/>
            <p:nvPr/>
          </p:nvGrpSpPr>
          <p:grpSpPr>
            <a:xfrm>
              <a:off x="8058240" y="155520"/>
              <a:ext cx="915840" cy="873360"/>
              <a:chOff x="8058240" y="155520"/>
              <a:chExt cx="915840" cy="873360"/>
            </a:xfrm>
          </p:grpSpPr>
          <p:sp>
            <p:nvSpPr>
              <p:cNvPr id="367" name=""/>
              <p:cNvSpPr/>
              <p:nvPr/>
            </p:nvSpPr>
            <p:spPr>
              <a:xfrm>
                <a:off x="8058240" y="155520"/>
                <a:ext cx="915840" cy="871560"/>
              </a:xfrm>
              <a:custGeom>
                <a:avLst/>
                <a:gdLst/>
                <a:ahLst/>
                <a:rect l="l" t="t" r="r" b="b"/>
                <a:pathLst>
                  <a:path w="577" h="555">
                    <a:moveTo>
                      <a:pt x="0" y="0"/>
                    </a:moveTo>
                    <a:lnTo>
                      <a:pt x="0" y="555"/>
                    </a:lnTo>
                    <a:lnTo>
                      <a:pt x="576" y="555"/>
                    </a:lnTo>
                    <a:lnTo>
                      <a:pt x="577" y="156"/>
                    </a:lnTo>
                    <a:lnTo>
                      <a:pt x="4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0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t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061480" y="861840"/>
                <a:ext cx="9111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0" bIns="864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  <a:ea typeface="PMingLiU"/>
                  </a:rPr>
                  <a:t>Jerr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7093080" y="154080"/>
              <a:ext cx="915840" cy="876240"/>
            </a:xfrm>
            <a:prstGeom prst="rect">
              <a:avLst/>
            </a:pr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864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Launch 09/0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 txBox="1"/>
          <p:nvPr/>
        </p:nvSpPr>
        <p:spPr>
          <a:xfrm>
            <a:off x="6012000" y="476280"/>
            <a:ext cx="1323720" cy="495360"/>
          </a:xfrm>
          <a:prstGeom prst="rect">
            <a:avLst/>
          </a:prstGeom>
        </p:spPr>
        <p:txBody>
          <a:bodyPr wrap="none" lIns="0" rIns="0" tIns="0" bIns="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AF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rcRect l="51977" t="38884" r="30566" b="41345"/>
          <a:stretch/>
        </p:blipFill>
        <p:spPr>
          <a:xfrm>
            <a:off x="7596360" y="2852640"/>
            <a:ext cx="1022040" cy="1009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72" name="" descr="Image number: 10145736"/>
          <p:cNvPicPr/>
          <p:nvPr/>
        </p:nvPicPr>
        <p:blipFill>
          <a:blip r:embed="rId2"/>
          <a:srcRect l="0" t="16677" r="21700" b="23150"/>
          <a:stretch/>
        </p:blipFill>
        <p:spPr>
          <a:xfrm>
            <a:off x="7596360" y="1628640"/>
            <a:ext cx="998280" cy="1068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71360" y="277920"/>
            <a:ext cx="7569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  <a:ea typeface="PMingLiU"/>
              </a:rPr>
              <a:t>Window of Opportunity - Untouchable Featur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4320" y="1222200"/>
            <a:ext cx="4674960" cy="365400"/>
          </a:xfrm>
          <a:prstGeom prst="rect">
            <a:avLst/>
          </a:prstGeom>
          <a:solidFill>
            <a:srgbClr val="b09fc2"/>
          </a:solidFill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36000" tIns="36000" bIns="360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Arial"/>
              </a:rPr>
              <a:t>Consumer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84320" y="2971800"/>
            <a:ext cx="4674960" cy="365040"/>
          </a:xfrm>
          <a:prstGeom prst="rect">
            <a:avLst/>
          </a:prstGeom>
          <a:solidFill>
            <a:srgbClr val="b09fc2"/>
          </a:solidFill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36000" tIns="36000" bIns="360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Arial"/>
              </a:rPr>
              <a:t>Operator requi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4320" y="4721400"/>
            <a:ext cx="4674960" cy="365040"/>
          </a:xfrm>
          <a:prstGeom prst="rect">
            <a:avLst/>
          </a:prstGeom>
          <a:solidFill>
            <a:srgbClr val="b09fc2"/>
          </a:solidFill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36000" tIns="36000" bIns="360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Arial"/>
              </a:rPr>
              <a:t>Competitor infl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1227240"/>
            <a:ext cx="3440160" cy="36504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36000" tIns="36000" bIns="360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touchable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508720" y="4111560"/>
            <a:ext cx="3440160" cy="36504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36000" tIns="36000" bIns="360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sig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2579400" y="3576600"/>
            <a:ext cx="5178240" cy="432000"/>
          </a:xfrm>
          <a:prstGeom prst="triangle">
            <a:avLst>
              <a:gd name="adj" fmla="val 49944"/>
            </a:avLst>
          </a:prstGeom>
          <a:solidFill>
            <a:srgbClr val="d7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84320" y="1620720"/>
            <a:ext cx="4674960" cy="1231920"/>
          </a:xfrm>
          <a:prstGeom prst="rect">
            <a:avLst/>
          </a:prstGeom>
          <a:solidFill>
            <a:srgbClr val="d7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87200" indent="-174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 need a easy-to-use phone only for voice calls and texting, to keep in touch easily with family and friend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I have low technology engagement, 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he phone should be uncomplicated to u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I’m value driven - cautious money managers who rely on tried and trusted br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4320" y="3370320"/>
            <a:ext cx="4674960" cy="1231920"/>
          </a:xfrm>
          <a:prstGeom prst="rect">
            <a:avLst/>
          </a:prstGeom>
          <a:solidFill>
            <a:srgbClr val="d7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87200" indent="-1746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PMingLiU"/>
              </a:rPr>
              <a:t>Special buttons to access frequently used func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PMingLiU"/>
              </a:rPr>
              <a:t>Easy to use user-interface according to Vodafone Simply UI specific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PMingLiU"/>
              </a:rPr>
              <a:t>Product delivery start in September 2006 in time for Christmas/year-end busin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4320" y="5119560"/>
            <a:ext cx="4674960" cy="1262160"/>
          </a:xfrm>
          <a:prstGeom prst="rect">
            <a:avLst/>
          </a:prstGeom>
          <a:solidFill>
            <a:srgbClr val="d7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74600" indent="-1746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PMingLiU"/>
              </a:rPr>
              <a:t>Sagem is currently supplying phones for Vodafone Simply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0800" y="1641600"/>
            <a:ext cx="3450960" cy="2363760"/>
          </a:xfrm>
          <a:prstGeom prst="rect">
            <a:avLst/>
          </a:prstGeom>
          <a:solidFill>
            <a:srgbClr val="9e1d3e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872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pecial buttons as per VF Simpl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Easy to use User-Interface as per VF Simply requi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Delivery start by Sept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00800" y="4521240"/>
            <a:ext cx="3450960" cy="1860480"/>
          </a:xfrm>
          <a:prstGeom prst="rect">
            <a:avLst/>
          </a:prstGeom>
          <a:solidFill>
            <a:srgbClr val="9e1d3e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872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Functional and main stream but communicate high quality and value based on precision and moder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Design</a:t>
            </a:r>
            <a:br>
              <a:rPr sz="2400"/>
            </a:b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9280" y="2276640"/>
            <a:ext cx="3888000" cy="4032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090440"/>
            <a:ext cx="7848720" cy="10432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 rot="10800000">
            <a:off x="165240" y="1090440"/>
            <a:ext cx="877680" cy="1043280"/>
          </a:xfrm>
          <a:prstGeom prst="rect">
            <a:avLst/>
          </a:prstGeom>
          <a:solidFill>
            <a:srgbClr val="b09fc2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Design Th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59280" y="1090440"/>
            <a:ext cx="410544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90000" bIns="0" anchor="t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 and Fee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 branding/ Nb. of IDs: Vodafone/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vel of customization: Special buttons per Vodafone Simply requirem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77840" y="1090440"/>
            <a:ext cx="407052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90000" bIns="0" anchor="t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ign Lin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, with special but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mension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.5x45x16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403280" y="2924280"/>
            <a:ext cx="1171800" cy="26478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211640" y="2460600"/>
            <a:ext cx="493236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2400" indent="-1224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ID based on Egoldradio stack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made this week to switch to SGL platform. Stackup, including LCD will be changed. Impact  on dimension and overall ID under evaluation this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Arial"/>
              </a:rPr>
              <a:t>Target and Malpha Business Case Jerry</a:t>
            </a:r>
            <a:br>
              <a:rPr sz="2400"/>
            </a:br>
            <a:r>
              <a:rPr b="0" lang="en-GB" sz="1800" spc="-1" strike="noStrike">
                <a:solidFill>
                  <a:srgbClr val="3a0e66"/>
                </a:solidFill>
                <a:latin typeface="Arial"/>
              </a:rPr>
              <a:t>The Target GM with 30% is over fulfilled by 12 %</a:t>
            </a:r>
            <a:endParaRPr b="1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08080" y="1090440"/>
          <a:ext cx="4618080" cy="510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090440"/>
                    <a:ext cx="4618080" cy="51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5154480" y="1117440"/>
            <a:ext cx="3738600" cy="625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nts / Analysis / Ri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48360" y="1873080"/>
            <a:ext cx="3725640" cy="4364280"/>
          </a:xfrm>
          <a:prstGeom prst="rect">
            <a:avLst/>
          </a:prstGeom>
          <a:solidFill>
            <a:srgbClr val="afc2c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st Catego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T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olum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t verified by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90 EUR Laun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BOM: Estimation Mr. Schlusc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C: Amber as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G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SC: standard for price 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verhea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PD: Estimation PD = Tar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Marcom: Standard for price 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nalysis / Ris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 Target Cost Gap (11 EUR above Targe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Launch price with 90 EUR is without regarding any push-back to VF (therefore the price is at risk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–&gt; tb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52320" y="6384960"/>
            <a:ext cx="1361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85760" indent="-18576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* Focus on Service Cos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7280" y="3213000"/>
            <a:ext cx="5977080" cy="146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was calculated based on Egoldradio BOM. Decision made this week to switch to SGL. New SGL BOM still pe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9:06:25Z</dcterms:created>
  <dc:creator>Kopecky Christian</dc:creator>
  <dc:description/>
  <dc:language>en-US</dc:language>
  <cp:lastModifiedBy>Admin</cp:lastModifiedBy>
  <dcterms:modified xsi:type="dcterms:W3CDTF">2006-02-21T08:54:05Z</dcterms:modified>
  <cp:revision>34</cp:revision>
  <dc:subject/>
  <dc:title>Rough schedule from Ma to M0</dc:title>
</cp:coreProperties>
</file>